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714-0565-4E38-A1D3-7DD1793D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3D4-8062-4139-BCD6-8553E48B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89A-933E-4695-B02F-4861ADF4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18F-C0E8-4CD5-B45E-32033E2B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362-A70B-497A-A28C-35D8020C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027-1AEC-4259-AE99-702E9AD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E702-7E06-4BBD-8F25-91E360A4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6B41-F20D-4525-9A17-C8229AD5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7E8-9818-4BC8-A05E-6044BB39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8722-FD50-4629-B846-92F553F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F692-9061-44B1-8893-D50F948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2D3-A8A0-4F97-A896-79360DE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3DD-9841-43FC-B486-40D62803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5774-D088-4DDD-BDDF-99DAF6C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5784-8C6C-4EEB-964E-3E8502CD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4CFF-C929-46AD-B0B9-7C52DFA1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1CA3-6502-40C2-A837-D5D0D5ED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8B5-B22C-433D-A17F-025E139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C5C-4C94-422A-8CC3-2E8B9387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59C-E45D-414F-BABD-2E8348DC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E4D-46BB-4861-A076-9F08E01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696-21C0-4A4B-9E5B-AB3A8F50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2A3-4E0F-4420-B87E-5BE619AD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21F-CA33-449C-B209-4C8C6441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EE2B-BE73-440B-95DC-CD8C2B571436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5029-B077-40B4-858A-95DE83280DAD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1557000"/>
            <a:ext cx="7993080" cy="1297080"/>
          </a:xfrm>
          <a:prstGeom prst="rect">
            <a:avLst/>
          </a:prstGeom>
          <a:noFill/>
          <a:ln w="50760">
            <a:solidFill>
              <a:srgbClr val="00008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99"/>
                </a:solidFill>
                <a:latin typeface="Arial"/>
              </a:rPr>
              <a:t>Introduzione al primo soccors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Cos’è il primo soccorso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l primo soccorso è tutto ciò che un soccorritore occasionale può fare in caso di necessità senza l’ausilio di mezzi professionali.</a:t>
            </a: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BD00038_"/>
          <p:cNvPicPr/>
          <p:nvPr/>
        </p:nvPicPr>
        <p:blipFill>
          <a:blip r:embed="rId1"/>
          <a:stretch/>
        </p:blipFill>
        <p:spPr>
          <a:xfrm>
            <a:off x="7380360" y="2781360"/>
            <a:ext cx="1295280" cy="125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52280" y="2336760"/>
            <a:ext cx="1524240" cy="1270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609480" y="3581280"/>
            <a:ext cx="838224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a il compito d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eservare le funzioni vitali della persona  durante l’attesa di soccorsi più qualificat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itare ulteriori rischi per la salut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itare aggravament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igliorare le condizioni generali (se possibile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3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99"/>
                </a:solidFill>
                <a:uFillTx/>
                <a:latin typeface="Arial"/>
              </a:rPr>
              <a:t>PRONTO SOCCORSO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l pronto soccorso è tutto ciò che si può fare con personale e mezzi adeguati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BD20121_"/>
          <p:cNvPicPr/>
          <p:nvPr/>
        </p:nvPicPr>
        <p:blipFill>
          <a:blip r:embed="rId1"/>
          <a:stretch/>
        </p:blipFill>
        <p:spPr>
          <a:xfrm>
            <a:off x="611280" y="3573360"/>
            <a:ext cx="1874880" cy="178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BD05805_"/>
          <p:cNvPicPr/>
          <p:nvPr/>
        </p:nvPicPr>
        <p:blipFill>
          <a:blip r:embed="rId2"/>
          <a:stretch/>
        </p:blipFill>
        <p:spPr>
          <a:xfrm>
            <a:off x="6723000" y="4221000"/>
            <a:ext cx="1452600" cy="172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Urgenza o emergenz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Entrambe sono situazioni anomale in cui la salute dall’infortunato è compromess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</a:t>
            </a:r>
            <a:r>
              <a:rPr b="1" lang="it-IT" sz="2400" spc="-1" strike="noStrike">
                <a:solidFill>
                  <a:srgbClr val="f5fe44"/>
                </a:solidFill>
                <a:latin typeface="Verdana"/>
              </a:rPr>
              <a:t>URGE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richiede un soccorso rapido, ma NON compromette la vita della perso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</a:t>
            </a:r>
            <a:r>
              <a:rPr b="1" lang="it-IT" sz="2400" spc="-1" strike="noStrike">
                <a:solidFill>
                  <a:srgbClr val="f5fe44"/>
                </a:solidFill>
                <a:latin typeface="Verdana"/>
              </a:rPr>
              <a:t>EMERGE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richiede un soccorso immediato perché è a rischio la vita della perso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24004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SCALA DELLE URGEN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ESTREMA URGENZ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tutte le lesioni che interferiscono con la respirazione e/o la circolazio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URGENZA PRIMARI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emorragie contenibil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portatori di laccio emostatico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gravi traumi toracici e addominal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gravi ed estese ustion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membra sfracellat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amputazion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BD04972_"/>
          <p:cNvPicPr/>
          <p:nvPr/>
        </p:nvPicPr>
        <p:blipFill>
          <a:blip r:embed="rId3"/>
          <a:stretch/>
        </p:blipFill>
        <p:spPr>
          <a:xfrm>
            <a:off x="5724360" y="1989000"/>
            <a:ext cx="2924280" cy="2192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179280" y="3933720"/>
            <a:ext cx="24004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asellaDiTesto 2"/>
          <p:cNvSpPr/>
          <p:nvPr/>
        </p:nvSpPr>
        <p:spPr>
          <a:xfrm>
            <a:off x="2050920" y="549360"/>
            <a:ext cx="547380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URGENZA SECONDARI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rattura di colonna vertebrale o di bacino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ratture esposte degli art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erite gra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SENZA URGENZ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ratture non esposte degli art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erite lievi, escoriazioni, contusion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ustioni lie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COMPITI DEL PRIMO SOCCORRIT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Valutare la situazi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ttivare la chiamata di soccorso (118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ssistere l’infortunato secondo le regole di primo soccorso conosciute ed il buon sens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BD04918_"/>
          <p:cNvPicPr/>
          <p:nvPr/>
        </p:nvPicPr>
        <p:blipFill>
          <a:blip r:embed="rId4"/>
          <a:stretch/>
        </p:blipFill>
        <p:spPr>
          <a:xfrm>
            <a:off x="7596360" y="476280"/>
            <a:ext cx="1368360" cy="1351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5"/>
          <a:stretch/>
        </p:blipFill>
        <p:spPr>
          <a:xfrm>
            <a:off x="324000" y="35002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asellaDiTesto 4"/>
          <p:cNvSpPr/>
          <p:nvPr/>
        </p:nvSpPr>
        <p:spPr>
          <a:xfrm>
            <a:off x="2411280" y="3357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GRAZIE PER L’ATTEN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24000" y="3524400"/>
            <a:ext cx="262872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9:47:37Z</dcterms:created>
  <dc:creator>Faggiano Danilo</dc:creator>
  <dc:description/>
  <dc:language>en-US</dc:language>
  <cp:lastModifiedBy>Utente</cp:lastModifiedBy>
  <dcterms:modified xsi:type="dcterms:W3CDTF">2016-05-29T05:32:09Z</dcterms:modified>
  <cp:revision>15</cp:revision>
  <dc:subject/>
  <dc:title>Diapositiva 1</dc:title>
</cp:coreProperties>
</file>