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04FE-65D9-43CB-9289-9846BEAEE67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AADC-A216-4097-B6BB-DCDDF592913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5C89-5FE6-44D8-A5B1-E124081F109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6CF8-965F-4396-A761-3D63D223614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dicazione bibliografic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ontenuti espressi nel titolo della presentazione fanno parte dei contenuti trattati e sviluppati nel testo: “Il Minivolley: fondamenti scientifici e metodologia applicativa” di Pittera, Pedata, Ligas, Pasqualoni, Calzetti Edi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1B54-64A5-4587-8990-3474CBB05D5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B83-E9D3-4021-8EB9-63BA253F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00C-6C7B-4624-BE5D-4EA710EE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1A1-DD89-4D63-8776-9FB99431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613-F1CF-4524-AD83-C992C424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DD87-89B1-41C6-A254-83D58501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4157-6E2C-41EF-B43E-D6F383B3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1707-BAAF-4D90-BB49-63139E31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22BA-7BA3-43C5-9098-BB42769F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AC9F-F085-40C8-B9A1-1D231604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0401-D311-4663-95C9-84349F19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C389-6741-4AF1-982C-7B9CCABC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19D-3337-4A65-806F-275BCC3A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1291-1B83-44C7-AB7B-D6C55640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595C-D88C-4C90-BD63-CE8EE5E6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2DC2-F883-4F2A-A090-9A847BD7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3C72-02B8-46E0-9C2F-47737870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ECE0-982A-4FBC-B88F-CB9D6AB6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F18-728A-4D7E-B499-B84F370C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15D-C10B-4E6F-8D14-817B295C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14B-5E2A-4B98-B457-611D9BA3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E3E-AB49-4208-9454-B1A5E824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6A0-1834-409C-8270-A7FCEA5B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0BB-838D-4AE8-910E-9A804C6B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FEB-1C26-4A03-90DA-70539A6C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3539-70B4-4EB7-B383-04147999EBE8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1" descr="logo FIPAV hires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8028000" y="5445000"/>
            <a:ext cx="900000" cy="1081080"/>
          </a:xfrm>
          <a:prstGeom prst="rect">
            <a:avLst/>
          </a:prstGeom>
          <a:ln w="0">
            <a:noFill/>
          </a:ln>
        </p:spPr>
      </p:pic>
      <p:sp>
        <p:nvSpPr>
          <p:cNvPr id="10" name="Text Box 12"/>
          <p:cNvSpPr/>
          <p:nvPr/>
        </p:nvSpPr>
        <p:spPr>
          <a:xfrm rot="16200000">
            <a:off x="-1634040" y="4853160"/>
            <a:ext cx="35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rebuchet MS"/>
              </a:rPr>
              <a:t>© by FIPAV  - Centro Qualificazione Na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2" descr="logo FIPAV hires"/>
          <p:cNvPicPr/>
          <p:nvPr/>
        </p:nvPicPr>
        <p:blipFill>
          <a:blip r:embed="rId2"/>
          <a:stretch/>
        </p:blipFill>
        <p:spPr>
          <a:xfrm>
            <a:off x="8028000" y="5445000"/>
            <a:ext cx="900000" cy="1081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3"/>
          <p:cNvSpPr/>
          <p:nvPr/>
        </p:nvSpPr>
        <p:spPr>
          <a:xfrm rot="16200000">
            <a:off x="-1634040" y="4853160"/>
            <a:ext cx="35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rebuchet MS"/>
              </a:rPr>
              <a:t>© by FIPAV  - Centro Qualificazione Na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3243-3C73-4137-B10B-A8389AC744FD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Berlin Sans FB"/>
              </a:rPr>
              <a:t>CORSO ALLIEVO ALLENATORE PRIMO LIVELLO GIOVANIL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erlin Sans FB"/>
              </a:rPr>
              <a:t>MODULO 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erlin Sans FB"/>
              </a:rPr>
              <a:t>PREPARAZIONE MOTORIA 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erlin Sans FB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Berlin Sans FB"/>
              </a:rPr>
              <a:t>Le caratteristiche dei movimenti generali e specifici della pallavolo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rebuchet MS"/>
              </a:rPr>
              <a:t>OBIETTIVO GENERALE DEL MODULO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Dall’analisi della dinamica dei processi di apprendimento motorio e dalla valutazione qualitativa dei suddetti processi è possibile identificare come il giovane affronta alcune importanti problematiche dell’esecuzione del movimento. I contenuti identificati sono strettamente attinenti alla motricità implicata nelle discipline di situazione ed alle principali caratteristiche che la contraddistinguono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rebuchet MS"/>
              </a:rPr>
              <a:t>LE CARATTERISTICHE DEL MOVIMENTO NELLA PALLAVOLO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Accelerazione e decelerazio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ateralizzazio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a traiettoria della pall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ttura, interpretazione ed anticipazione dell’ambien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La palla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La gestualità dei compagni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rebuchet MS"/>
              </a:rPr>
              <a:t>La gestualità degli avversari</a:t>
            </a:r>
            <a:endParaRPr b="0" i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rebuchet MS"/>
              </a:rPr>
              <a:t>DOMANDE E CONSIDERAZIONI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0" name="Picture 4" descr="BD18217_"/>
          <p:cNvPicPr/>
          <p:nvPr/>
        </p:nvPicPr>
        <p:blipFill>
          <a:blip r:embed="rId1"/>
          <a:stretch/>
        </p:blipFill>
        <p:spPr>
          <a:xfrm>
            <a:off x="755640" y="2708280"/>
            <a:ext cx="139068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BD18217_"/>
          <p:cNvPicPr/>
          <p:nvPr/>
        </p:nvPicPr>
        <p:blipFill>
          <a:blip r:embed="rId2"/>
          <a:stretch/>
        </p:blipFill>
        <p:spPr>
          <a:xfrm>
            <a:off x="6227640" y="3357720"/>
            <a:ext cx="1897200" cy="274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BD18217_"/>
          <p:cNvPicPr/>
          <p:nvPr/>
        </p:nvPicPr>
        <p:blipFill>
          <a:blip r:embed="rId3"/>
          <a:stretch/>
        </p:blipFill>
        <p:spPr>
          <a:xfrm>
            <a:off x="2556000" y="4365720"/>
            <a:ext cx="1050840" cy="1522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BD18217_"/>
          <p:cNvPicPr/>
          <p:nvPr/>
        </p:nvPicPr>
        <p:blipFill>
          <a:blip r:embed="rId4"/>
          <a:stretch/>
        </p:blipFill>
        <p:spPr>
          <a:xfrm>
            <a:off x="2916360" y="1628640"/>
            <a:ext cx="844560" cy="122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BD18217_"/>
          <p:cNvPicPr/>
          <p:nvPr/>
        </p:nvPicPr>
        <p:blipFill>
          <a:blip r:embed="rId5"/>
          <a:stretch/>
        </p:blipFill>
        <p:spPr>
          <a:xfrm>
            <a:off x="5940360" y="1773360"/>
            <a:ext cx="844560" cy="1224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9"/>
          <p:cNvSpPr/>
          <p:nvPr/>
        </p:nvSpPr>
        <p:spPr>
          <a:xfrm>
            <a:off x="3564000" y="2203560"/>
            <a:ext cx="25923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 algn="ctr">
              <a:lnSpc>
                <a:spcPct val="80000"/>
              </a:lnSpc>
              <a:spcBef>
                <a:spcPts val="8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600" spc="-1" strike="noStrike">
                <a:solidFill>
                  <a:srgbClr val="9999ff"/>
                </a:solidFill>
                <a:latin typeface="Book Antiqua"/>
              </a:rPr>
              <a:t>?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5:47:45Z</dcterms:created>
  <dc:creator>Bellotti</dc:creator>
  <dc:description/>
  <dc:language>en-US</dc:language>
  <cp:lastModifiedBy>Utente</cp:lastModifiedBy>
  <dcterms:modified xsi:type="dcterms:W3CDTF">2016-05-22T17:30:50Z</dcterms:modified>
  <cp:revision>10</cp:revision>
  <dc:subject/>
  <dc:title>Diapositiva 1</dc:title>
</cp:coreProperties>
</file>