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14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C76-C1BE-4164-9DD8-618F90A8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90-A41B-44DA-9AD9-7AB3419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FD1-83F7-4A33-A850-EF72B6C4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3E7-4EBD-43C4-A5FC-6D776812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3965-8CBC-4C93-9623-8D2A676E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4914-752D-4373-AB41-2BC11DE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EED-434F-4C52-9CF2-40632F8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B00-674F-4F73-A150-FC965083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6AC-0AF3-46C3-B426-1FA3A80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099-4E82-4000-B1E0-D24BFAB2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8DE2-3086-4ABF-8710-8AEF148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502-35D4-4BF0-8A28-456CF493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ADDE-7811-4BB7-B6B1-8E71690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C67-7A6E-480A-8A51-4BF1BA1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A47-7658-4DDA-97C1-1201AB3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144-2FE2-44C9-9923-2F0FB0BB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838-6500-4CCB-B9E9-4733495D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E2A-9099-4948-BAA5-B270FB2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14F-FE0E-4AEC-8224-0609360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DBC-2B12-4F7F-8F13-633A772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DB4-E410-4BD6-843A-76207A02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A1A-45C1-4878-8BE5-DCCD959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1A3-83F8-45AC-BAAC-4476530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7DC-7987-4120-A7FC-820E2F8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BD3-8172-4EA0-B288-D079285DDE3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58C-A0E1-4023-8F76-E510922D760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0000ff"/>
                </a:solidFill>
                <a:latin typeface="Berlin Sans FB"/>
              </a:rPr>
              <a:t>CORSO PER ALLENATORI DI PRIMO GRADO</a:t>
            </a:r>
            <a:endParaRPr b="0" lang="en-US" sz="46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3441600"/>
            <a:ext cx="66294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MODULO 1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SISTEMI DI ALLENAMENTO 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L’esercizio di difesa e contrattacco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Trebuchet MS"/>
              </a:rPr>
              <a:t>OBIETTIVO GENERALE DEL MODULO</a:t>
            </a:r>
            <a:endParaRPr b="0" lang="en-US" sz="3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al concetto generale di esercitazione di sintesi è possibile identificare, nella pallavolo, una serie di situazioni tecniche che si concatenano in convenzionali metodiche a cui corrispondono categorie di esercitazioni. L’esercizio di sintesi, che nel sistema di allenamento specifico trova la sua ottimale collocazione, può essere quindi codifica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rebuchet MS"/>
              </a:rPr>
              <a:t>L’ESERCIZIO DI DIFESA E CONTRATTACCO (OBIETTIVI TECNICI)</a:t>
            </a:r>
            <a:endParaRPr b="0" lang="en-US" sz="28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Problematiche che impediscono la ricostruzione del contrattacc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Controllo della difesa in funzione del secondo tocco</a:t>
            </a:r>
            <a:endParaRPr b="0" i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mpossibilità ad eseguire un secondo tocc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Problematiche relative all’alzata soprattutto dei non alzatori</a:t>
            </a:r>
            <a:endParaRPr b="0" i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Mancanza di controllo esecutivo del palleggio / bag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Mancanza dei riferimenti per la precisi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Preparazione tardiva delle rincorse per il contrattacco</a:t>
            </a:r>
            <a:endParaRPr b="0" i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Determinante dell’uso prevalente di attacchi piazza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ESERCIZIO DI DIFESA E CONTRATTACCO (OBIETTIVI TECNICI)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a difesa per la ricostruzione del contrattacc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 relazione tra obiettivo e velocità della palla che arriva dall’attacco</a:t>
            </a:r>
            <a:endParaRPr b="0" i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palla alta verso il centro del campo contro l’attacco poten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palla adeguata al timing di entrata dell’alzatore contro gli attacchi piazza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palla precisa nel punto rete contro le freeba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o sviluppo del collegamento tra difensor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e linee di difesa</a:t>
            </a:r>
            <a:endParaRPr b="0" i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dentificano la distanza di ciascun difensore dall’attaccan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 sovrapposizione delle competenze</a:t>
            </a:r>
            <a:endParaRPr b="0" i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Solo per le aree di competenza al limite delle possibilità di interve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1420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L’ESERCIZIO DI DIFESA E CONTRATTACCO (OBIETTIVI TECNICI)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85808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o sviluppo del collegamento tra difesa e ricostru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’alzata dei non alzator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scelta tecnica per l’esecuzione dell’alz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riteri per definire la precisione sul’alzata di contrattac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allenamento situazion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preparazione delle rincorse per il contrattacco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ricerca della distanza da r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uscita dal campo laterale per la visuale dell’alz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rebuchet MS"/>
              </a:rPr>
              <a:t>DOMANDE E CONSIDERAZIONI</a:t>
            </a:r>
            <a:endParaRPr b="0" lang="en-US" sz="32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Alberto</cp:lastModifiedBy>
  <dcterms:modified xsi:type="dcterms:W3CDTF">2015-05-16T16:53:01Z</dcterms:modified>
  <cp:revision>32</cp:revision>
  <dc:subject/>
  <dc:title>Diapositiva 1</dc:title>
</cp:coreProperties>
</file>