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205-BEF7-4057-88D3-257F8B32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57B-18E6-4267-8E54-CC465ED0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CC9-5639-4A3A-B042-BB174721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FC2-B334-40F6-9B7E-4B828B17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BD8-58F1-4451-A943-D3D71C68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5395-A65B-46F1-A5A7-44948DD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9E46-109F-4B94-953B-1B48A11D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C6FF-2878-4FB6-8346-804A3DF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29A-8B7F-4285-9860-996223A7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F513-4BD7-4D18-BB1E-5FC3345E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3503-1EB7-4CB0-98A6-D8D7013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D36-8E52-41DF-A312-5FD36B1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D9BD-9375-4CBC-85E4-30BF4F3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E211-C7DA-4436-871E-8DE5025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061A-D600-478A-9DAF-1EA2B390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331-3E36-45A2-878E-FAE45DBB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F975-F5D2-4AEE-9F49-80F63FD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548-D661-463D-9A9C-7E12EABA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ACC-73B6-40E3-AE50-AF6C118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348-81A5-4015-867E-2520EB7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6B7-B2FC-49AE-A85D-D50A42F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B67-834A-4310-86F2-0C7442C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9CF-005D-49A8-9C19-65000F4C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0EA-ED60-40D6-B8F2-345D362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F2A-61D3-4A2D-B2D8-9F125C8494D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8B1F-AD98-4C54-B10C-5BED52C8129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0000ff"/>
                </a:solidFill>
                <a:latin typeface="Berlin Sans FB"/>
              </a:rPr>
              <a:t>CORSO PER ALLENATORI DI PRIMO GRADO</a:t>
            </a:r>
            <a:endParaRPr b="0" lang="en-US" sz="46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3441600"/>
            <a:ext cx="66294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MODULO 1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SISTEMI DI ALLENAMENTO 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L’allenamento del sistema di muro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Trebuchet MS"/>
              </a:rPr>
              <a:t>OBIETTIVO GENERALE DEL MODULO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210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al concetto generale di esercitazione di sintesi è possibile identificare, nella pallavolo, una serie di situazioni tecniche che si concatenano in convenzionali metodiche a cui corrispondono categorie di esercitazioni. L’esercizio di sintesi, che nel sistema di allenamento specifico trova la sua ottimale collocazione, può essere quindi codifica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ALLENAMENTO DEL SISTEMA DI MURO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Principi dell’allenamento del mur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Ogni giocatore mura su dei riferimenti specifici e con un proprio obiettivo sia nel muro singolo che nel muro organizzato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Obiettiv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urare vinc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urare delle direzioni di attacco avversarie lasciandone altre alla dife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Salvaguardare le competenze della difesa</a:t>
            </a:r>
            <a:endParaRPr b="0" i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Non subire il mani – ou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ALLENAMENTO DEL SISTEMA DI MURO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dentificazione degli obiettivi del sistema di mur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Muro – non muro: competenze di chiamata della scelta di non murare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Dove muro: definizione delle posizioni di partenza individuali nella linea di muro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mpetenze primarie individuali in base alle  capacità di spostamen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adattamento del piano di rimbalz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ALLENAMENTO DEL SISTEMA DI MURO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dentificazione degli obiettivi del sistema di mur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Quando muro: la tattica dell’1 contro 1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Obiettivi comuni per la scelta del tempo di sal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tempo di mur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Quale possibile direzione d’attacco deve essere preclusa all’avversario?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adattamento del piano di rimbalz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ALLENAMENTO DEL SISTEMA DI MURO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oncetti di “assistenza” e “sovraccarico” nell’organizzazione delle posizioni di partenza a mur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Criteri di scelta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Tipi di rincorsa d’attacco del centrale avversar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mportamento dell’alzatore avversario nella distribuzi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Grado di prevedibilità dell’alzatore avversar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Comportamento di muro a lettura 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Comportamento di muro ad opzione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DOMANDE E CONSIDERAZIONI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Alberto</cp:lastModifiedBy>
  <dcterms:modified xsi:type="dcterms:W3CDTF">2015-05-16T16:54:27Z</dcterms:modified>
  <cp:revision>31</cp:revision>
  <dc:subject/>
  <dc:title>Diapositiva 1</dc:title>
</cp:coreProperties>
</file>