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914B-E1A4-4015-9403-E5F0C8AF0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CCE1-6A02-43F3-8252-D85F4CFC5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74CF-F306-4142-B93E-8C5A7C29C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70E1-3726-41A7-B2D7-E11E66B79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A451E-2108-4803-BBB5-30B01A745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75C0C-940B-424D-9A02-D6E0983F3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80B30-5FB5-4663-9EB8-3F68630D5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9E168-93ED-4F57-A790-2570A081E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E0DB4-125A-4C65-96C9-21C99D7E4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227CF-F480-4926-857D-32903F229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3643B-8CA3-47A2-9B3F-D6A21922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880B-DF52-40C1-A919-F010BA550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DBCA3-1967-44CF-BAE0-A265FF06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10FED-C5A9-4A65-8564-D4122849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5DF8C-19BA-4402-A0F1-565F892EA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360FC-9F64-4D6B-9D6E-7C5A609F4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ED64A-76B9-4486-A357-B513785D2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F293D-5B0A-425B-AFE4-4A300D7A2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85BBF-79ED-49B4-A2F6-EFB15C1BD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0960E-E547-4AC0-803E-FE71D8EDF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14F21-1A2D-4213-85C7-0B6EEEC63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90D13-1A56-4F63-8084-B0C85E518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85A7-6052-49AA-A7E7-E2B08160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87DA0-8E23-4262-BB6C-CDCB3BAAA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26119-3EB3-49A1-997B-21601F75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1ECDB-FB55-4CF9-B755-95E23F95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48059-F8DE-4120-91E1-BA617FDB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C35FC-23C8-4FDC-9C84-159E97FC1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F982D-EA92-49AA-AA54-7B1B4B344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7ECE2-5D2F-4BB6-996D-F416403C4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7E772-C650-4AAE-A638-0D6286B21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94985-07ED-490D-BB0E-7C0109B22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7225F-2349-46B7-A879-DE9B5FF0F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259E-D289-4E92-976A-83E50EDF4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B4DDC-BD65-4B95-BBB4-908466421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0134C-2FC2-433C-9351-22A2001C0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BE926-52E8-4C74-8480-7C1FB295E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5960F-7CE3-4C95-B4EE-A6954C64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0802D-1325-4413-AF86-370A5831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BA35E-4915-4402-9E3D-3180A2EA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8F5EA-F765-4DAB-890A-25EE9EFE8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DAAFD-298A-435C-AAF9-426C9A67A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EFCC4-B4D5-4D4B-A1BB-A9F3F18C1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30F75-F5D8-4D7D-AA80-2B389A08A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4238-43ED-4263-ABCC-24C39731C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2D0BF-5B5C-409F-A605-2DA3BED57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F6C17-CE25-463F-9208-238DF3A89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8712D-F6D7-4FCC-9EAD-784B099D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5F802-F139-4467-BB30-A1D067768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0A0ED-1072-46A3-8E55-8DB2B0304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02B04-0D5C-4102-9FD9-35B73BE3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06646-E4D5-4569-9C9C-EB5B8346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3F718-576F-4656-939F-94A40C4B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61EEF-F622-4CBC-8A38-AC64B620E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2DC4C-B5BE-4D71-B0A6-3AC9152A2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A660-7FC6-437E-B85E-14E70BE26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CF70E-8D8A-4531-88C0-21981A66B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FD9C-EAC4-4686-BFEF-BE26BB8A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3362-A927-4F51-AF2B-AB74EBB7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9D9F-86A1-4F11-BE44-B5CD2ED0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769A0-90A0-426F-86EA-D0F522FAC611}" type="datetime5">
              <a:rPr b="1" lang="it-IT" sz="1200" spc="-1" strike="noStrike">
                <a:solidFill>
                  <a:srgbClr val="454545"/>
                </a:solidFill>
                <a:latin typeface="Times New Roman"/>
              </a:rPr>
              <a:t>31 lug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45454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54545"/>
                </a:solidFill>
                <a:latin typeface="Arial"/>
              </a:rPr>
              <a:t>Alberto Di Matt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FC11C-5A75-45F5-836B-643C00AC89FA}" type="slidenum">
              <a:rPr b="0" lang="it-IT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D119-8EDD-4E1F-A11D-75F6D77B5D5C}" type="datetime5">
              <a:rPr b="1" lang="it-IT" sz="1200" spc="-1" strike="noStrike">
                <a:solidFill>
                  <a:srgbClr val="454545"/>
                </a:solidFill>
                <a:latin typeface="Times New Roman"/>
              </a:rPr>
              <a:t>31 lug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45454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54545"/>
                </a:solidFill>
                <a:latin typeface="Arial"/>
              </a:rPr>
              <a:t>Alberto Di Matt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49CA0-8CF7-44CA-A1AB-78E790666BE9}" type="slidenum">
              <a:rPr b="0" lang="it-IT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87991-41AF-472C-B96E-E5A684856DC1}" type="datetime5">
              <a:rPr b="1" lang="it-IT" sz="1200" spc="-1" strike="noStrike">
                <a:solidFill>
                  <a:srgbClr val="454545"/>
                </a:solidFill>
                <a:latin typeface="Times New Roman"/>
              </a:rPr>
              <a:t>31 lug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45454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54545"/>
                </a:solidFill>
                <a:latin typeface="Arial"/>
              </a:rPr>
              <a:t>Alberto Di Matt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623D1-7357-4535-997C-81D539314E5C}" type="slidenum">
              <a:rPr b="0" lang="it-IT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10"/>
          <p:cNvSpPr/>
          <p:nvPr/>
        </p:nvSpPr>
        <p:spPr>
          <a:xfrm>
            <a:off x="7588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12"/>
          <p:cNvSpPr/>
          <p:nvPr/>
        </p:nvSpPr>
        <p:spPr>
          <a:xfrm>
            <a:off x="46450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09D16-BD43-4631-9096-174DAC6A9B1A}" type="datetime5">
              <a:rPr b="1" lang="it-IT" sz="1200" spc="-1" strike="noStrike">
                <a:solidFill>
                  <a:srgbClr val="454545"/>
                </a:solidFill>
                <a:latin typeface="Times New Roman"/>
              </a:rPr>
              <a:t>31 lug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45454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54545"/>
                </a:solidFill>
                <a:latin typeface="Arial"/>
              </a:rPr>
              <a:t>Alberto Di Matt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F2689-1C37-41D2-85EA-6BC8B5CCB833}" type="slidenum">
              <a:rPr b="0" lang="it-IT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9"/>
          <p:cNvSpPr/>
          <p:nvPr/>
        </p:nvSpPr>
        <p:spPr>
          <a:xfrm flipH="1">
            <a:off x="3580920" y="611280"/>
            <a:ext cx="1800" cy="3809880"/>
          </a:xfrm>
          <a:prstGeom prst="line">
            <a:avLst/>
          </a:prstGeom>
          <a:ln w="15840">
            <a:solidFill>
              <a:srgbClr val="9898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FBD25-4025-441A-A361-68F693CF839D}" type="datetime5">
              <a:rPr b="1" lang="it-IT" sz="1200" spc="-1" strike="noStrike">
                <a:solidFill>
                  <a:srgbClr val="454545"/>
                </a:solidFill>
                <a:latin typeface="Times New Roman"/>
              </a:rPr>
              <a:t>31 lug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45454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54545"/>
                </a:solidFill>
                <a:latin typeface="Arial"/>
              </a:rPr>
              <a:t>Alberto Di Matt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1789F-F086-46B0-BDE2-C070A51114EE}" type="slidenum">
              <a:rPr b="0" lang="it-IT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Rettangolo 1" descr=""/>
          <p:cNvPicPr/>
          <p:nvPr/>
        </p:nvPicPr>
        <p:blipFill>
          <a:blip r:embed="rId1"/>
          <a:stretch/>
        </p:blipFill>
        <p:spPr>
          <a:xfrm>
            <a:off x="682560" y="1231920"/>
            <a:ext cx="7918560" cy="3187800"/>
          </a:xfrm>
          <a:prstGeom prst="rect">
            <a:avLst/>
          </a:prstGeom>
          <a:ln w="0">
            <a:noFill/>
          </a:ln>
        </p:spPr>
      </p:pic>
      <p:sp>
        <p:nvSpPr>
          <p:cNvPr id="219" name="Segnaposto data 2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C5CC1-B31F-413F-AE4A-E124F458724C}" type="datetime5">
              <a:rPr b="1" lang="it-IT" sz="1200" spc="-1" strike="noStrike">
                <a:solidFill>
                  <a:srgbClr val="454545"/>
                </a:solidFill>
                <a:latin typeface="Times New Roman"/>
              </a:rPr>
              <a:t>31 lug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egnaposto piè di pagina 3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54545"/>
                </a:solidFill>
                <a:latin typeface="Arial"/>
              </a:rPr>
              <a:t>Alberto Di Matt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4"/>
          <p:cNvSpPr/>
          <p:nvPr/>
        </p:nvSpPr>
        <p:spPr>
          <a:xfrm>
            <a:off x="684360" y="260280"/>
            <a:ext cx="770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ARICO DI ALLENAME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È l’insieme degli stimoli allenanti ai quali viene sottopos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’atleta al fine di determinare nel suo organismo gli adattamen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 i conseguenti processi di Supercompensazio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Supercompensazione può essere definita c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’innalzamento delle capacità lavorative al di sopra dei livell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he l’atleta era in grado di esprimere poco tempo pri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carico di allenamento va modulato affinché non diventi 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ovraccarico ECCESSIV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egnaposto data 1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8446B-C1FD-47D2-A668-BDF926D649FB}" type="datetime5">
              <a:rPr b="1" lang="it-IT" sz="1200" spc="-1" strike="noStrike">
                <a:solidFill>
                  <a:srgbClr val="454545"/>
                </a:solidFill>
                <a:latin typeface="Times New Roman"/>
              </a:rPr>
              <a:t>31 lug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egnaposto piè di pagina 2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54545"/>
                </a:solidFill>
                <a:latin typeface="Arial"/>
              </a:rPr>
              <a:t>Alberto Di Matt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Rettangolo 2" descr=""/>
          <p:cNvPicPr/>
          <p:nvPr/>
        </p:nvPicPr>
        <p:blipFill>
          <a:blip r:embed="rId1"/>
          <a:stretch/>
        </p:blipFill>
        <p:spPr>
          <a:xfrm>
            <a:off x="1042920" y="1865160"/>
            <a:ext cx="6772320" cy="2425680"/>
          </a:xfrm>
          <a:prstGeom prst="rect">
            <a:avLst/>
          </a:prstGeom>
          <a:ln w="0">
            <a:noFill/>
          </a:ln>
        </p:spPr>
      </p:pic>
      <p:sp>
        <p:nvSpPr>
          <p:cNvPr id="249" name="Segnaposto data 3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CF93A-41C2-4EA3-B2DF-76A00D2A4836}" type="datetime5">
              <a:rPr b="1" lang="it-IT" sz="1200" spc="-1" strike="noStrike">
                <a:solidFill>
                  <a:srgbClr val="454545"/>
                </a:solidFill>
                <a:latin typeface="Times New Roman"/>
              </a:rPr>
              <a:t>31 lug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egnaposto piè di pagina 4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54545"/>
                </a:solidFill>
                <a:latin typeface="Arial"/>
              </a:rPr>
              <a:t>Alberto Di Matt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4"/>
          <p:cNvSpPr/>
          <p:nvPr/>
        </p:nvSpPr>
        <p:spPr>
          <a:xfrm>
            <a:off x="468360" y="774720"/>
            <a:ext cx="792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VERTRAINING E PALLAVO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erificare ed individuare il calo di rendimento pu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sere difficoltoso soprattutto negli sport ad elev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mponente tecnico -tattica come nella pallavol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el caso della pallavolo il calo prestativo è 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egnale di sovrallenamento quando è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ggettivamente identificabile (e associato ad altr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egnali) o si protrae nel tempo per motivi che n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ossono essere unicamente riconducibili 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n’errata impostazione tecnico -tattic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egnaposto data 1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8FAAA-69DF-4A7B-9D12-86778271DA45}" type="datetime5">
              <a:rPr b="1" lang="it-IT" sz="1200" spc="-1" strike="noStrike">
                <a:solidFill>
                  <a:srgbClr val="454545"/>
                </a:solidFill>
                <a:latin typeface="Times New Roman"/>
              </a:rPr>
              <a:t>31 lug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egnaposto piè di pagina 2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54545"/>
                </a:solidFill>
                <a:latin typeface="Arial"/>
              </a:rPr>
              <a:t>Alberto Di Matt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4"/>
          <p:cNvSpPr/>
          <p:nvPr/>
        </p:nvSpPr>
        <p:spPr>
          <a:xfrm>
            <a:off x="684360" y="1125360"/>
            <a:ext cx="7991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cetto di forza massima e rel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Forza massima: entità di tensione muscolare massima che può produrre una catena cine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Forza relativa: forza per chilogrammo di peso corpor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forza massima e relativa per il giocatore di pallavo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Forza massima: componente struttur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Forza relativa: componente funzionale e coordin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egnaposto data 1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166F6-3B6C-4BA7-B00E-9C9F539F8094}" type="datetime5">
              <a:rPr b="1" lang="it-IT" sz="1200" spc="-1" strike="noStrike">
                <a:solidFill>
                  <a:srgbClr val="454545"/>
                </a:solidFill>
                <a:latin typeface="Times New Roman"/>
              </a:rPr>
              <a:t>31 lug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egnaposto piè di pagina 2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54545"/>
                </a:solidFill>
                <a:latin typeface="Arial"/>
              </a:rPr>
              <a:t>Alberto Di Matt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4"/>
          <p:cNvSpPr/>
          <p:nvPr/>
        </p:nvSpPr>
        <p:spPr>
          <a:xfrm>
            <a:off x="1187280" y="907920"/>
            <a:ext cx="727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cetto di quantità di forza massima ottim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ignificato della forza massima nella strategia generale di preven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Riduzione del grado di significatività degli impatti (palla – salt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ignificato della forza massima nel modello di prest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Base del movimento veloce ed esplos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egnaposto data 1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82AFC-8C53-4AD2-BCE1-F200A21FA540}" type="datetime5">
              <a:rPr b="1" lang="it-IT" sz="1200" spc="-1" strike="noStrike">
                <a:solidFill>
                  <a:srgbClr val="454545"/>
                </a:solidFill>
                <a:latin typeface="Times New Roman"/>
              </a:rPr>
              <a:t>31 lug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egnaposto piè di pagina 2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54545"/>
                </a:solidFill>
                <a:latin typeface="Arial"/>
              </a:rPr>
              <a:t>Alberto Di Matt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4"/>
          <p:cNvSpPr/>
          <p:nvPr/>
        </p:nvSpPr>
        <p:spPr>
          <a:xfrm>
            <a:off x="1258920" y="907920"/>
            <a:ext cx="640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tabilità funzionale dell’asse corpor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nuta e trasmissione delle spi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tabilità funzionale delle principali articol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elocità esecutiva e trasmissione delle spi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quilibrio funzionale destro – sinis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trollo delle asimmetrie struttur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quilibrio funzionale agonista – antagonis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ange articolari comple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egnaposto data 1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5E739-C04E-421E-BA31-8A4E173D3637}" type="datetime5">
              <a:rPr b="1" lang="it-IT" sz="1200" spc="-1" strike="noStrike">
                <a:solidFill>
                  <a:srgbClr val="454545"/>
                </a:solidFill>
                <a:latin typeface="Times New Roman"/>
              </a:rPr>
              <a:t>31 lug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egnaposto piè di pagina 2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54545"/>
                </a:solidFill>
                <a:latin typeface="Arial"/>
              </a:rPr>
              <a:t>Alberto Di Matt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4"/>
          <p:cNvSpPr/>
          <p:nvPr/>
        </p:nvSpPr>
        <p:spPr>
          <a:xfrm>
            <a:off x="971640" y="911160"/>
            <a:ext cx="756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riteri di progressività legati ai principi metodolog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Dalla corretta e stabile tecnica esecutiva allo sviluppo della forza vero e prop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Dal potenziamento strutturale (ipertrofia) al miglioramento della componente neuro – muscolare (reclutamen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Dal potenziamento dell’asse corporeo al potenziamento delle estremità (allenamento centrifug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Dall’allenamento della quantità (progressione del volume delle ripetizioni e della frequenza di allenamento) all’allenamento dell’intensità (progressione dell’entità del carico estern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Dallo sviluppo del carico esterno allo sviluppo delle accelerazioni (le espressioni di forza veloci ed esplos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egnaposto data 1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C50C9-B23F-4FF9-B444-04912F064050}" type="datetime5">
              <a:rPr b="1" lang="it-IT" sz="1200" spc="-1" strike="noStrike">
                <a:solidFill>
                  <a:srgbClr val="454545"/>
                </a:solidFill>
                <a:latin typeface="Times New Roman"/>
              </a:rPr>
              <a:t>31 lug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egnaposto piè di pagina 2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54545"/>
                </a:solidFill>
                <a:latin typeface="Arial"/>
              </a:rPr>
              <a:t>Alberto Di Matt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4"/>
          <p:cNvSpPr/>
          <p:nvPr/>
        </p:nvSpPr>
        <p:spPr>
          <a:xfrm>
            <a:off x="826920" y="765000"/>
            <a:ext cx="756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incipi tecnico – esecutiv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Abitudine al controllo della tensione dell’asse corpor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chiena tesa – capo in linea – parete addominale contrat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Controllo della fase eccen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versione del movimento lenta per atleti in fase didattico – formati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versione del movimento accelerata per atleti evolu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Inspirare in fase eccentrica ed espirare al culmine dello sfor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egnaposto data 1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B9692-743F-4590-9B92-DEA2B6A22878}" type="datetime5">
              <a:rPr b="1" lang="it-IT" sz="1200" spc="-1" strike="noStrike">
                <a:solidFill>
                  <a:srgbClr val="454545"/>
                </a:solidFill>
                <a:latin typeface="Times New Roman"/>
              </a:rPr>
              <a:t>31 lug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egnaposto piè di pagina 2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54545"/>
                </a:solidFill>
                <a:latin typeface="Arial"/>
              </a:rPr>
              <a:t>Alberto Di Matt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4"/>
          <p:cNvSpPr/>
          <p:nvPr/>
        </p:nvSpPr>
        <p:spPr>
          <a:xfrm>
            <a:off x="826920" y="620640"/>
            <a:ext cx="7632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’allenamento a stazioni (esecuzione di un esercizio completo alla vol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Consente interventi mirati ed efficaci nell’allenamento di tutte le espressioni di for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’allenamento a circuito (esecuzioni di concatenazioni di esercizi secondo specifici criteri di progressività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all’esercizio generale allo speci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all’incremento del carico all’incremento delle velocità esecu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Consente interventi variati e orientamenti qualitativi dell’allenamento speci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set training (esecuzioni di concatenazioni di esercizi su uno specifico distretto muscola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egnaposto data 1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1EC6B-05EB-48E9-BA14-12BEA32395B8}" type="datetime5">
              <a:rPr b="1" lang="it-IT" sz="1200" spc="-1" strike="noStrike">
                <a:solidFill>
                  <a:srgbClr val="454545"/>
                </a:solidFill>
                <a:latin typeface="Times New Roman"/>
              </a:rPr>
              <a:t>31 lug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egnaposto piè di pagina 2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54545"/>
                </a:solidFill>
                <a:latin typeface="Arial"/>
              </a:rPr>
              <a:t>Alberto Di Matt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4"/>
          <p:cNvSpPr/>
          <p:nvPr/>
        </p:nvSpPr>
        <p:spPr>
          <a:xfrm>
            <a:off x="826920" y="1598760"/>
            <a:ext cx="720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trollo dalla simmetria di sviluppo della forza muscol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L’utilizzo dei carichi liberi è da preferire all’utilizzo delle resistenze vinco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trollo dell’equilibrio di sviluppo di forza nel sistema agonisti – antagonis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Il potenziamento proposto su range articolari completi è da preferire al potenziamento su range di movimento articolare parz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 fase didattico – form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ello sviluppo muscolare strutturale (ipertrof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egnaposto data 1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8B82-FCA2-4CAF-AB5C-A38E0E0D0847}" type="datetime5">
              <a:rPr b="1" lang="it-IT" sz="1200" spc="-1" strike="noStrike">
                <a:solidFill>
                  <a:srgbClr val="454545"/>
                </a:solidFill>
                <a:latin typeface="Times New Roman"/>
              </a:rPr>
              <a:t>31 lug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egnaposto piè di pagina 2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54545"/>
                </a:solidFill>
                <a:latin typeface="Arial"/>
              </a:rPr>
              <a:t>Alberto Di Matt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4"/>
          <p:cNvSpPr/>
          <p:nvPr/>
        </p:nvSpPr>
        <p:spPr>
          <a:xfrm>
            <a:off x="971640" y="1628640"/>
            <a:ext cx="734544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al concetto generale di prevenzione delle problematiche generabili dai sovraccarichi funzionali, concetto che si differenzia rispetto alla prevenzione delle possibili recidive di una problematica o di un infortunio pregresso, è possibile osservare come il livello di forza rispetto al peso corporeo rappresenti in assoluto il più efficace mezzo di lavo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egnaposto data 1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95C49-21A6-45D5-95C1-14E0982AE584}" type="datetime5">
              <a:rPr b="1" lang="it-IT" sz="1200" spc="-1" strike="noStrike">
                <a:solidFill>
                  <a:srgbClr val="454545"/>
                </a:solidFill>
                <a:latin typeface="Times New Roman"/>
              </a:rPr>
              <a:t>31 lug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egnaposto piè di pagina 2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54545"/>
                </a:solidFill>
                <a:latin typeface="Arial"/>
              </a:rPr>
              <a:t>Alberto Di Matt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4"/>
          <p:cNvSpPr/>
          <p:nvPr/>
        </p:nvSpPr>
        <p:spPr>
          <a:xfrm>
            <a:off x="179280" y="404640"/>
            <a:ext cx="86407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FFETTI A BREVE A A LUNGO TERMINE 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OVRACCARICO FUNZION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REVE TERMI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UNGO TERMI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ª Dolore muscol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ª Danno muscol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ª Lesioni tendin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ª Fatica muscolare loc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ª Lesioni osteoarticolar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ª Contrattu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ª Tendinopat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ª Condriti (infiam. alle cartilagini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ªOsteocondriti (infiam. alle oss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steocondrosi (alterazioni del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ssa in via di accrescimento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egnaposto data 1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D015F-EB9E-4402-AFB3-A33A157E5723}" type="datetime5">
              <a:rPr b="1" lang="it-IT" sz="1200" spc="-1" strike="noStrike">
                <a:solidFill>
                  <a:srgbClr val="454545"/>
                </a:solidFill>
                <a:latin typeface="Times New Roman"/>
              </a:rPr>
              <a:t>31 lug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egnaposto piè di pagina 2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54545"/>
                </a:solidFill>
                <a:latin typeface="Arial"/>
              </a:rPr>
              <a:t>Alberto Di Matt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4"/>
          <p:cNvSpPr/>
          <p:nvPr/>
        </p:nvSpPr>
        <p:spPr>
          <a:xfrm>
            <a:off x="684360" y="1125360"/>
            <a:ext cx="727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EVENZIONE E RECUPE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RE CONCETTI base che dovrebbero f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arte della cultura di chi prepara atleti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ia esso allenatore e/o preparatore,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taff o meno con medici e fisioterapisti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d è responsabile della loro salu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egnaposto data 1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C6A60-47FB-4886-AF06-55B831B9F242}" type="datetime5">
              <a:rPr b="1" lang="it-IT" sz="1200" spc="-1" strike="noStrike">
                <a:solidFill>
                  <a:srgbClr val="454545"/>
                </a:solidFill>
                <a:latin typeface="Times New Roman"/>
              </a:rPr>
              <a:t>31 lug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egnaposto piè di pagina 2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54545"/>
                </a:solidFill>
                <a:latin typeface="Arial"/>
              </a:rPr>
              <a:t>Alberto Di Matt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4"/>
          <p:cNvSpPr/>
          <p:nvPr/>
        </p:nvSpPr>
        <p:spPr>
          <a:xfrm>
            <a:off x="755640" y="620640"/>
            <a:ext cx="7777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avig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La propriocettiva: il controllo funzionale del disequilib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La mobilizzazione della cavig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range articolare at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La caviglia nel sa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completamento delle spi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ricerca di stabilità nella ricadu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La caviglia nell’accosci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chiusura dell’articolazione tibio – tarsica nell’accosci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controllo degli spostamenti mantenendo le posizioni di accosci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egnaposto data 1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582B3-83FE-472F-B881-F4EB91D94584}" type="datetime5">
              <a:rPr b="1" lang="it-IT" sz="1200" spc="-1" strike="noStrike">
                <a:solidFill>
                  <a:srgbClr val="454545"/>
                </a:solidFill>
                <a:latin typeface="Times New Roman"/>
              </a:rPr>
              <a:t>31 lug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egnaposto piè di pagina 2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54545"/>
                </a:solidFill>
                <a:latin typeface="Arial"/>
              </a:rPr>
              <a:t>Alberto Di Matt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4"/>
          <p:cNvSpPr/>
          <p:nvPr/>
        </p:nvSpPr>
        <p:spPr>
          <a:xfrm>
            <a:off x="1042920" y="549360"/>
            <a:ext cx="7129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ginocch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La propriocettiva: il controllo del disequilibrio abbassando il centro di gravità e il controllo degli angoli di movimento di accosci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L’equilibrio funzionale nella flesso – estens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dinamica della rotula nell’accosci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La stabilità later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dinamica articolare nelle traslocazioni e nelle ricadute dai sal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egnaposto data 1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7A86A-9D85-4373-B5F9-086369A563DB}" type="datetime5">
              <a:rPr b="1" lang="it-IT" sz="1200" spc="-1" strike="noStrike">
                <a:solidFill>
                  <a:srgbClr val="454545"/>
                </a:solidFill>
                <a:latin typeface="Times New Roman"/>
              </a:rPr>
              <a:t>31 lug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egnaposto piè di pagina 2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54545"/>
                </a:solidFill>
                <a:latin typeface="Arial"/>
              </a:rPr>
              <a:t>Alberto Di Matt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4"/>
          <p:cNvSpPr/>
          <p:nvPr/>
        </p:nvSpPr>
        <p:spPr>
          <a:xfrm>
            <a:off x="395280" y="404640"/>
            <a:ext cx="842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zona dorso – lomb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Potenziamento addominale e lomb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funzione stabilizzatrice: potenziamento sta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trasmissione delle spinte: potenziamento dina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Controllo dell’equilibrio postur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trollo dei processi di retrazione dei muscoli ad azione posturale che agiscono sulla colon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Il controllo delle retrazioni dei muscoli pettor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Il controllo delle retrazioni dei muscoli ischio – crural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Controllo delle dinamiche respirato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spirazione torac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spirazione diaframma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egnaposto data 1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3009E-B16A-4FC3-96A7-D74D00484F0F}" type="datetime5">
              <a:rPr b="1" lang="it-IT" sz="1200" spc="-1" strike="noStrike">
                <a:solidFill>
                  <a:srgbClr val="454545"/>
                </a:solidFill>
                <a:latin typeface="Times New Roman"/>
              </a:rPr>
              <a:t>31 lug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egnaposto piè di pagina 2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54545"/>
                </a:solidFill>
                <a:latin typeface="Arial"/>
              </a:rPr>
              <a:t>Alberto Di Matt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4"/>
          <p:cNvSpPr/>
          <p:nvPr/>
        </p:nvSpPr>
        <p:spPr>
          <a:xfrm>
            <a:off x="611280" y="620640"/>
            <a:ext cx="7848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spa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La stabil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icerca dei gradi di libertà articolari fisiologi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otenziamento esteso a tutti i gradi di libertà articolari che caratterizzano la spa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tilizzo di carichi che non vadano ad attivare azioni di compen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La mobilità attiva delle scap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o scivolamento della scapola sul piatto torac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Nel’introdurre un movimento di trazione degli arti superi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Nel completare un’azione di spinta degli arti superi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egnaposto data 1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67E15-3211-4B66-AEE7-DD8C32AE47BB}" type="datetime5">
              <a:rPr b="1" lang="it-IT" sz="1200" spc="-1" strike="noStrike">
                <a:solidFill>
                  <a:srgbClr val="454545"/>
                </a:solidFill>
                <a:latin typeface="Times New Roman"/>
              </a:rPr>
              <a:t>31 lug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egnaposto piè di pagina 2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54545"/>
                </a:solidFill>
                <a:latin typeface="Arial"/>
              </a:rPr>
              <a:t>Alberto Di Matt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4"/>
          <p:cNvSpPr/>
          <p:nvPr/>
        </p:nvSpPr>
        <p:spPr>
          <a:xfrm>
            <a:off x="2286000" y="1324080"/>
            <a:ext cx="4572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EVENZI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evenire significa sviluppare un sistema di lavo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cnico e fisico tale da impedire che subiscano dan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e strutture maggiormente sollecitate dall’allename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pecifico della pallavolo. Farlo bene significa ridurre i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ischio e la gravità degli infortuni che posso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dizionare il risultato immediato, ma an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n’intera stagio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egnaposto data 1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77088-13D9-4A93-A4D0-F05E43189E6E}" type="datetime5">
              <a:rPr b="1" lang="it-IT" sz="1200" spc="-1" strike="noStrike">
                <a:solidFill>
                  <a:srgbClr val="454545"/>
                </a:solidFill>
                <a:latin typeface="Times New Roman"/>
              </a:rPr>
              <a:t>31 lug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egnaposto piè di pagina 2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54545"/>
                </a:solidFill>
                <a:latin typeface="Arial"/>
              </a:rPr>
              <a:t>Alberto Di Matt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4"/>
          <p:cNvSpPr/>
          <p:nvPr/>
        </p:nvSpPr>
        <p:spPr>
          <a:xfrm>
            <a:off x="2286000" y="20098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MPENSAZI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mpensare significa ristabilire una situazione 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quilibrio (in particolare muscolare) laddove i ges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cnici specifici tendono ad alterarla favorendo gl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fortuni e limitando lo sviluppo delle capacità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egnaposto data 1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DCB65-C92A-4173-BB32-B54783F19131}" type="datetime5">
              <a:rPr b="1" lang="it-IT" sz="1200" spc="-1" strike="noStrike">
                <a:solidFill>
                  <a:srgbClr val="454545"/>
                </a:solidFill>
                <a:latin typeface="Times New Roman"/>
              </a:rPr>
              <a:t>31 lug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egnaposto piè di pagina 2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54545"/>
                </a:solidFill>
                <a:latin typeface="Arial"/>
              </a:rPr>
              <a:t>Alberto Di Matt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4"/>
          <p:cNvSpPr/>
          <p:nvPr/>
        </p:nvSpPr>
        <p:spPr>
          <a:xfrm>
            <a:off x="2286000" y="173520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IABILITAZI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iabilitare significa riportare l’atleta alla normale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mpleta efficienza sportiva. Farlo bene, con 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voro costante, graduale e progressivo, vuol d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congiurare il pericolo di ricadute che posso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ventare gravose sul piano umano e psicologic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egnaposto data 1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27F0B-5021-484F-B13A-CA5133431443}" type="datetime5">
              <a:rPr b="1" lang="it-IT" sz="1200" spc="-1" strike="noStrike">
                <a:solidFill>
                  <a:srgbClr val="454545"/>
                </a:solidFill>
                <a:latin typeface="Times New Roman"/>
              </a:rPr>
              <a:t>31 lug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egnaposto piè di pagina 2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54545"/>
                </a:solidFill>
                <a:latin typeface="Arial"/>
              </a:rPr>
              <a:t>Alberto Di Matt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4"/>
          <p:cNvSpPr/>
          <p:nvPr/>
        </p:nvSpPr>
        <p:spPr>
          <a:xfrm>
            <a:off x="2286000" y="500040"/>
            <a:ext cx="4572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EVENZIONE DEGLI INFORTU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cquisire una conoscenza degli infortuni tipici 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iocatore di pallavo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INOCCHIO: distorsioni, lesione del LCA (+ femmine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ndinite rotulea (“jumper’s knee”, il giocatore impara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vivere con questa patologia), traumi 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ovraccaric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PALLA: Problemi derivati da stress articolari origina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a eccessivo uso (Over-use). Periartriti, infiammazioni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alcificazioni, tendinopatie alla cuffia dei rotator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egnaposto data 1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910FA-08CA-4FDB-AFB1-F97896709CAC}" type="datetime5">
              <a:rPr b="1" lang="it-IT" sz="1200" spc="-1" strike="noStrike">
                <a:solidFill>
                  <a:srgbClr val="454545"/>
                </a:solidFill>
                <a:latin typeface="Times New Roman"/>
              </a:rPr>
              <a:t>31 lug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egnaposto piè di pagina 2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54545"/>
                </a:solidFill>
                <a:latin typeface="Arial"/>
              </a:rPr>
              <a:t>Alberto Di Matt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4"/>
          <p:cNvSpPr/>
          <p:nvPr/>
        </p:nvSpPr>
        <p:spPr>
          <a:xfrm>
            <a:off x="611280" y="549360"/>
            <a:ext cx="7416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apporto carico recup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La stima del carico compless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riteri legati alla qualità dell’esecuzione tec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Il controllo del movimento in fase di apprendimento costituisce il limite di applicazione del sovraccarico artific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riteri legati alla difficoltà esecutiva indot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Dai gradi e escursione articolare richiesti nel g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Dal grado di stabilità dei punti di appoggio della for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Dalla velocità di esecu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riteri legati all’entità del carico esterno propo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Il controllo delle azioni di compenso o degli equilibri esecutivi costituisce il limite di incremento del carico esterno propo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egnaposto data 1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B032C-7F2F-447C-99FC-09E34446A734}" type="datetime5">
              <a:rPr b="1" lang="it-IT" sz="1200" spc="-1" strike="noStrike">
                <a:solidFill>
                  <a:srgbClr val="454545"/>
                </a:solidFill>
                <a:latin typeface="Times New Roman"/>
              </a:rPr>
              <a:t>31 lug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egnaposto piè di pagina 2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54545"/>
                </a:solidFill>
                <a:latin typeface="Arial"/>
              </a:rPr>
              <a:t>Alberto Di Matt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4"/>
          <p:cNvSpPr/>
          <p:nvPr/>
        </p:nvSpPr>
        <p:spPr>
          <a:xfrm>
            <a:off x="1116000" y="549360"/>
            <a:ext cx="655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AVIGLIA: distorsioni da cambi di direzione 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icadute da un salto (85% dei casi sono interessati 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egamenti laterali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LONNA VERTEBRALE: interessa il tratto lomb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er le ricadute (spesso asimmetriche) dai salti e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ausa dell’iperestensione del rachide durant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attuta e la schiacci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egnaposto data 1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6D4A-13C5-4BFA-9915-065E5423C7C3}" type="datetime5">
              <a:rPr b="1" lang="it-IT" sz="1200" spc="-1" strike="noStrike">
                <a:solidFill>
                  <a:srgbClr val="454545"/>
                </a:solidFill>
                <a:latin typeface="Times New Roman"/>
              </a:rPr>
              <a:t>31 lug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egnaposto piè di pagina 2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54545"/>
                </a:solidFill>
                <a:latin typeface="Arial"/>
              </a:rPr>
              <a:t>Alberto Di Matt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4"/>
          <p:cNvSpPr/>
          <p:nvPr/>
        </p:nvSpPr>
        <p:spPr>
          <a:xfrm>
            <a:off x="2286000" y="214776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cquisire una conoscenza degli infortuni tipici 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iocatore di pallavo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OLSO: distorsioni 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aduta (talvolta c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rattura dello scafoid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TA: distorsioni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ussazioni, interfalange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rat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egnaposto data 1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7D268-06D2-483A-BD2A-01BDD03D3898}" type="datetime5">
              <a:rPr b="1" lang="it-IT" sz="1200" spc="-1" strike="noStrike">
                <a:solidFill>
                  <a:srgbClr val="454545"/>
                </a:solidFill>
                <a:latin typeface="Times New Roman"/>
              </a:rPr>
              <a:t>31 lug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egnaposto piè di pagina 2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54545"/>
                </a:solidFill>
                <a:latin typeface="Arial"/>
              </a:rPr>
              <a:t>Alberto Di Matt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4"/>
          <p:cNvSpPr/>
          <p:nvPr/>
        </p:nvSpPr>
        <p:spPr>
          <a:xfrm>
            <a:off x="324000" y="1268280"/>
            <a:ext cx="770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maggior parte degl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fortuni del giocatore 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allavolo sono traumi indiret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ovuti 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Terreno di gioco, cli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Calzature, ginocchi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Carico di allename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Stress del gesto tecn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Riposo non sufficie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egnaposto data 1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8F8D6-0831-47AB-AB6A-B2DEB4C5AF83}" type="datetime5">
              <a:rPr b="1" lang="it-IT" sz="1200" spc="-1" strike="noStrike">
                <a:solidFill>
                  <a:srgbClr val="454545"/>
                </a:solidFill>
                <a:latin typeface="Times New Roman"/>
              </a:rPr>
              <a:t>31 lug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egnaposto piè di pagina 2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54545"/>
                </a:solidFill>
                <a:latin typeface="Arial"/>
              </a:rPr>
              <a:t>Alberto Di Matt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4"/>
          <p:cNvSpPr/>
          <p:nvPr/>
        </p:nvSpPr>
        <p:spPr>
          <a:xfrm>
            <a:off x="1403280" y="1268280"/>
            <a:ext cx="640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ause delle lesio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INOCCHIO: Troppi salti, sovraccarichi, cadute c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otazione violen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PALLA: tecnica non corretta, troppi attacchi e/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attute, allenamento privo di esercizi compensator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solo muscoli agonisti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LONNA VERTEBRALE: uso errato 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otenziamento muscolare, troppi salti, ricadute n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en ammortizzate, disarmonia muscolare, carenz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ddominale, addominali mal esegui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egnaposto data 1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693CF-8617-4714-802D-EBCA024DB01C}" type="datetime5">
              <a:rPr b="1" lang="it-IT" sz="1200" spc="-1" strike="noStrike">
                <a:solidFill>
                  <a:srgbClr val="454545"/>
                </a:solidFill>
                <a:latin typeface="Times New Roman"/>
              </a:rPr>
              <a:t>31 lug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egnaposto piè di pagina 2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54545"/>
                </a:solidFill>
                <a:latin typeface="Arial"/>
              </a:rPr>
              <a:t>Alberto Di Matt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CasellaDiTesto 1"/>
          <p:cNvSpPr/>
          <p:nvPr/>
        </p:nvSpPr>
        <p:spPr>
          <a:xfrm>
            <a:off x="1116000" y="765000"/>
            <a:ext cx="691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EVENZIONE DEGLI INFORTU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ause delle lesio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AVIGLIA: ricadute da muro o schiacciata, scontr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ra compag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OLSO: in conseguenza a tuffi, dife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TA: muri, difese, pallegg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on mancano le lesioni muscolari. Le zone più colpit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DDOMINALI: specie i centrali (estensione esplosiva degl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rti inferiori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SCIA: la maggioranza nel quadricipite, poi i flessor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RICIPITE SURALE (polpaccio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egnaposto data 2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9907-0CE7-467D-842C-8A105A5316EB}" type="datetime5">
              <a:rPr b="1" lang="it-IT" sz="1200" spc="-1" strike="noStrike">
                <a:solidFill>
                  <a:srgbClr val="454545"/>
                </a:solidFill>
                <a:latin typeface="Times New Roman"/>
              </a:rPr>
              <a:t>31 lug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egnaposto piè di pagina 3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54545"/>
                </a:solidFill>
                <a:latin typeface="Arial"/>
              </a:rPr>
              <a:t>Alberto Di Matt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4"/>
          <p:cNvSpPr/>
          <p:nvPr/>
        </p:nvSpPr>
        <p:spPr>
          <a:xfrm>
            <a:off x="395280" y="189000"/>
            <a:ext cx="6462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TTIVITÀ DI RECUPERO E COMPENS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lastici e macchine specifi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ttimi esercizi di compenso e/o di potenziamento n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raumatico per le spalle e il tronco sono quelli che si posso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eguire con gli elastici e carrucole (con sovraccarico minim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 tante ripetizioni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1332000" y="3213000"/>
            <a:ext cx="552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nche per gli arti inferiori è buona norma utilizzare elastici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arrucole per compensare disequilibri muscolari. In particol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ono importanti gli esercizi che potenziano i muscoli adduttor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 i flessori della cosc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egnaposto data 1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D771A-1264-43B2-9BF2-8EA96D42D7BD}" type="datetime5">
              <a:rPr b="1" lang="it-IT" sz="1200" spc="-1" strike="noStrike">
                <a:solidFill>
                  <a:srgbClr val="454545"/>
                </a:solidFill>
                <a:latin typeface="Times New Roman"/>
              </a:rPr>
              <a:t>31 lug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egnaposto piè di pagina 2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54545"/>
                </a:solidFill>
                <a:latin typeface="Arial"/>
              </a:rPr>
              <a:t>Alberto Di Matt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5"/>
          <p:cNvSpPr/>
          <p:nvPr/>
        </p:nvSpPr>
        <p:spPr>
          <a:xfrm>
            <a:off x="395280" y="0"/>
            <a:ext cx="84978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lonna vertebr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È buona norma dedicare del tempo, specie al termine del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eduta di allenamento, ad esercizi compensativi e postural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he fanno riferimento alla colonna vertebr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urante la stagione agonistica, 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oprattutto nel periodo di transizion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è buona norma dedicarsi al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volgimento di esercizi compensativ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gli arti superiori per il possib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quilibrio che potrebbe verificarsi t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e bracc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TTIVITÀ DI RECUPERO E COMPENS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raccia e spal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urante la stagione agonistica, 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oprattutto nel periodo di transizion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è buona norma dedicarsi al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volgimento di esercizi compensativ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gli arti superiori per il possib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quilibrio che potrebbe verificarsi t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e bracc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egnaposto data 1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C6769-F32C-4EC3-8423-0A49C3F9D5EA}" type="datetime5">
              <a:rPr b="1" lang="it-IT" sz="1200" spc="-1" strike="noStrike">
                <a:solidFill>
                  <a:srgbClr val="454545"/>
                </a:solidFill>
                <a:latin typeface="Times New Roman"/>
              </a:rPr>
              <a:t>31 lug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egnaposto piè di pagina 2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54545"/>
                </a:solidFill>
                <a:latin typeface="Arial"/>
              </a:rPr>
              <a:t>Alberto Di Matt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4"/>
          <p:cNvSpPr/>
          <p:nvPr/>
        </p:nvSpPr>
        <p:spPr>
          <a:xfrm>
            <a:off x="2286000" y="774720"/>
            <a:ext cx="4572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urante il riscaldament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•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eparare l’organismo a sopportare con efficienza 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arichi di lavoro successivi aumentando gradualment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mperatura corpore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•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eparare la competizione con la giusta concentrazi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•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evenzione da infortuni con riscaldamento localizzato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pecif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•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ichiamare alla mente gli schemi che saranno utilizza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elle attività programm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egnaposto data 1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7AE0C-E3C9-4455-B392-BA49D9E81D60}" type="datetime5">
              <a:rPr b="1" lang="it-IT" sz="1200" spc="-1" strike="noStrike">
                <a:solidFill>
                  <a:srgbClr val="454545"/>
                </a:solidFill>
                <a:latin typeface="Times New Roman"/>
              </a:rPr>
              <a:t>31 lug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egnaposto piè di pagina 2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54545"/>
                </a:solidFill>
                <a:latin typeface="Arial"/>
              </a:rPr>
              <a:t>Alberto Di Matt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4"/>
          <p:cNvSpPr/>
          <p:nvPr/>
        </p:nvSpPr>
        <p:spPr>
          <a:xfrm>
            <a:off x="179280" y="333360"/>
            <a:ext cx="8964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TTIVITÀ DI PREVENZI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 carico del ginocchi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opriocezi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arichi moderati sul quadricipite (tendine rotuleo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obilizzazione articol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llungamento muscolare (moderato, meglio al termi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ll’allenamento) a carico del psoas-iliaco e flessori del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sc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TTIVITÀ DI PREVENZI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 carico della colonna vertebral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otenziamento addominale e lomb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•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os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•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ttività compensati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•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llungamento muscolare (moderato, meglio al termi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lla cosc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ll’allenamento) a carico del psoas-iliaco, glutei e flessor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egnaposto data 1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3EA65-D752-4B9B-83D1-924C2C2C281A}" type="datetime5">
              <a:rPr b="1" lang="it-IT" sz="1200" spc="-1" strike="noStrike">
                <a:solidFill>
                  <a:srgbClr val="454545"/>
                </a:solidFill>
                <a:latin typeface="Times New Roman"/>
              </a:rPr>
              <a:t>31 lug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egnaposto piè di pagina 2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54545"/>
                </a:solidFill>
                <a:latin typeface="Arial"/>
              </a:rPr>
              <a:t>Alberto Di Matt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4"/>
          <p:cNvSpPr/>
          <p:nvPr/>
        </p:nvSpPr>
        <p:spPr>
          <a:xfrm>
            <a:off x="611280" y="500040"/>
            <a:ext cx="83534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opriocezi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•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obilizzazione articol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•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ttività per gli stabilizzatori della spal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tecnica e pratica corretta dei movimenti della spall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_x000c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TTIVITÀ DI PREVENZI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 carico della cavigli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•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opriocezi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•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obilizzazione articolare attiva e passiva del pie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•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viluppo delle capacità reattive del pie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_x000c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egnaposto data 1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F00D0-2813-4707-8691-116D3D3D113F}" type="datetime5">
              <a:rPr b="1" lang="it-IT" sz="1200" spc="-1" strike="noStrike">
                <a:solidFill>
                  <a:srgbClr val="454545"/>
                </a:solidFill>
                <a:latin typeface="Times New Roman"/>
              </a:rPr>
              <a:t>31 lug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egnaposto piè di pagina 2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54545"/>
                </a:solidFill>
                <a:latin typeface="Arial"/>
              </a:rPr>
              <a:t>Alberto Di Matt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4"/>
          <p:cNvSpPr/>
          <p:nvPr/>
        </p:nvSpPr>
        <p:spPr>
          <a:xfrm>
            <a:off x="2286000" y="1324080"/>
            <a:ext cx="4572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SAL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i fa sfruttando un punto fisso: il suo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i fa sfruttando principalmente la sinergia tra 3 articolazion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nca, ginocchio, cavigl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on è da dimenticare la partecipazione degli arti superior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ell’azione di slanci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so può esse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a fermo o esplosivo sia in alto (vertical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he in avanti (orizzontal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 la ricorsa (la cui esecuzione h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alenze coordinativ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attivo (ad una fase eccentrica seg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na fase concentrica, quindi pliomet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egnaposto data 1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58928-FECD-4E20-B94E-1408DB993CF1}" type="datetime5">
              <a:rPr b="1" lang="it-IT" sz="1200" spc="-1" strike="noStrike">
                <a:solidFill>
                  <a:srgbClr val="454545"/>
                </a:solidFill>
                <a:latin typeface="Times New Roman"/>
              </a:rPr>
              <a:t>31 lug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egnaposto piè di pagina 2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54545"/>
                </a:solidFill>
                <a:latin typeface="Arial"/>
              </a:rPr>
              <a:t>Alberto Di Matt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4"/>
          <p:cNvSpPr/>
          <p:nvPr/>
        </p:nvSpPr>
        <p:spPr>
          <a:xfrm>
            <a:off x="611280" y="333360"/>
            <a:ext cx="7489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faticamento a fine allename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•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è la fase che termina la seduta di allename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•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erve a facilitare il ritorno alla normalità del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unzioni organiche e muscolari sollecit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ell’allenamen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•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 questa fase sono opportune esercitazioni 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ilassamento, ginnastica funzionale e mobilizzazi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rticol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pratica dello stretching va svolta con estre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ttenzione e moderazione al termine della sedut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_x000c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egnaposto data 1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A940F-C67E-4447-B74E-9659B530FA12}" type="datetime5">
              <a:rPr b="1" lang="it-IT" sz="1200" spc="-1" strike="noStrike">
                <a:solidFill>
                  <a:srgbClr val="454545"/>
                </a:solidFill>
                <a:latin typeface="Times New Roman"/>
              </a:rPr>
              <a:t>31 lug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egnaposto piè di pagina 2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54545"/>
                </a:solidFill>
                <a:latin typeface="Arial"/>
              </a:rPr>
              <a:t>Alberto Di Matt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Rettangolo 1" descr=""/>
          <p:cNvPicPr/>
          <p:nvPr/>
        </p:nvPicPr>
        <p:blipFill>
          <a:blip r:embed="rId1"/>
          <a:stretch/>
        </p:blipFill>
        <p:spPr>
          <a:xfrm>
            <a:off x="603360" y="2225520"/>
            <a:ext cx="7851600" cy="2359080"/>
          </a:xfrm>
          <a:prstGeom prst="rect">
            <a:avLst/>
          </a:prstGeom>
          <a:ln w="0">
            <a:noFill/>
          </a:ln>
        </p:spPr>
      </p:pic>
      <p:sp>
        <p:nvSpPr>
          <p:cNvPr id="340" name="Segnaposto data 2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7B46-85EC-4FB2-A073-317690B32D63}" type="datetime5">
              <a:rPr b="1" lang="it-IT" sz="1200" spc="-1" strike="noStrike">
                <a:solidFill>
                  <a:srgbClr val="454545"/>
                </a:solidFill>
                <a:latin typeface="Times New Roman"/>
              </a:rPr>
              <a:t>31 lug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egnaposto piè di pagina 3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54545"/>
                </a:solidFill>
                <a:latin typeface="Arial"/>
              </a:rPr>
              <a:t>Alberto Di Matt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4"/>
          <p:cNvSpPr/>
          <p:nvPr/>
        </p:nvSpPr>
        <p:spPr>
          <a:xfrm>
            <a:off x="1332000" y="260280"/>
            <a:ext cx="4572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SALTO NELLA PALLAVO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ATTIVO: poco frequente nella pallavo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he si evidenzia in azioni per prendere il tempo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uro (doppio salto) o palleggio in sal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uscoli interessati: gastrocnemio, quadricipiti, adduttor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 tempi di stacco sono brev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frutta il rimbalzo pliometrico reagendo con il pavimen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È a carico dei piedi e delle cavigli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egnaposto data 1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83E43-1941-483D-92FA-55B78C2D038E}" type="datetime5">
              <a:rPr b="1" lang="it-IT" sz="1200" spc="-1" strike="noStrike">
                <a:solidFill>
                  <a:srgbClr val="454545"/>
                </a:solidFill>
                <a:latin typeface="Times New Roman"/>
              </a:rPr>
              <a:t>31 lug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egnaposto piè di pagina 2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54545"/>
                </a:solidFill>
                <a:latin typeface="Arial"/>
              </a:rPr>
              <a:t>Alberto Di Matt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4"/>
          <p:cNvSpPr/>
          <p:nvPr/>
        </p:nvSpPr>
        <p:spPr>
          <a:xfrm>
            <a:off x="2286000" y="1324080"/>
            <a:ext cx="4572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SALTO NELLA PALLAVO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A FERMO (o verticale): tip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lle azioni a mur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uscoli interessati: quadricipiti, glutei, addominali, ileo-pso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È un salto innaturale, verticale nel quale si ricade dove s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tac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È un salto di forza che richiede tempi lunghi di caricame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È un salto la cui potenza è fornita dai muscoli glutei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oprattutto dai quadricipi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egnaposto data 1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D9216-4F2F-44BD-ACE7-DED09861FFAD}" type="datetime5">
              <a:rPr b="1" lang="it-IT" sz="1200" spc="-1" strike="noStrike">
                <a:solidFill>
                  <a:srgbClr val="454545"/>
                </a:solidFill>
                <a:latin typeface="Times New Roman"/>
              </a:rPr>
              <a:t>31 lug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egnaposto piè di pagina 2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54545"/>
                </a:solidFill>
                <a:latin typeface="Arial"/>
              </a:rPr>
              <a:t>Alberto Di Matt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4"/>
          <p:cNvSpPr/>
          <p:nvPr/>
        </p:nvSpPr>
        <p:spPr>
          <a:xfrm>
            <a:off x="755640" y="260280"/>
            <a:ext cx="7632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SALTO NELLA PALLAVO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 RINCORSA: è un salto d’attacco p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eguire la schiacciata. Da taluni giocatori è sfrutta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nche per il servizio (battuta in salto). È un sal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aggiore rispetto a quello da fermo. La rincorsa p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questo tipo di salto, frontale o laterale rispetto al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te, varia dal fondamentale esegui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uscoli interessati: quadricipiti, sacrospinali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ddominal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È un salto coordinativo, che ha una partenza (forz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stantanea), un’accelerazione, uno stacco con caricame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apido e brev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chiena e braccia hanno un ruolo determinante per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uona riusci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egnaposto data 1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09057-F0E1-410B-A310-47557605249A}" type="datetime5">
              <a:rPr b="1" lang="it-IT" sz="1200" spc="-1" strike="noStrike">
                <a:solidFill>
                  <a:srgbClr val="454545"/>
                </a:solidFill>
                <a:latin typeface="Times New Roman"/>
              </a:rPr>
              <a:t>31 lug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egnaposto piè di pagina 2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54545"/>
                </a:solidFill>
                <a:latin typeface="Arial"/>
              </a:rPr>
              <a:t>Alberto Di Matt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4"/>
          <p:cNvSpPr/>
          <p:nvPr/>
        </p:nvSpPr>
        <p:spPr>
          <a:xfrm>
            <a:off x="611280" y="115920"/>
            <a:ext cx="80643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SALTO NELLA PALLAVO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n qualsiasi salto si divide in 3 fas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ARICAMENTO: il baricentro si abbassa e i muscoli si tendo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me molle pronti ad “esplodere” verso l’alto. Nella pallavolo i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aricamento varia da 90°a 135° e dipende se si intende esegu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n salto da fermo (a muro), con rincorsa (a muro, battuta, schiacciat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 reattivo (a muro o palleggiando -nel caso dell’alzat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alleggiando nel caso del libero -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TACCO: i muscoli hanno effettuato la loro spinta e si “vola” p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lcuni decimi di secondo. Lo stacco, per essere efficace, de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vere caratteristiche di rapidità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TTERRAGGIO: è la fase di ammortizzamento del salto. U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icaduta violenta da altezze significative e talora senza controll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i si allena a saltare e non a ricadere. Questa fase è spesso 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rroneamente trascurata e, nel tempo, può causare seri infortun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egnaposto data 1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6B80B-49E0-4833-AB4A-2C98ECC1DBDB}" type="datetime5">
              <a:rPr b="1" lang="it-IT" sz="1200" spc="-1" strike="noStrike">
                <a:solidFill>
                  <a:srgbClr val="454545"/>
                </a:solidFill>
                <a:latin typeface="Times New Roman"/>
              </a:rPr>
              <a:t>31 lug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egnaposto piè di pagina 2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54545"/>
                </a:solidFill>
                <a:latin typeface="Arial"/>
              </a:rPr>
              <a:t>Alberto Di Matt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4"/>
          <p:cNvSpPr/>
          <p:nvPr/>
        </p:nvSpPr>
        <p:spPr>
          <a:xfrm>
            <a:off x="1042920" y="549360"/>
            <a:ext cx="6913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apporto carico recup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Il recupero come mez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ripristino delle risorse energetiche, funzionali e strutturali avviene nelle ore successive al lavoro grazie ai sistemi di adattamento (supercompensazione) dell’organ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Il tempo di recupero dei diversi tessu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fferenze sostanziali nei tempi di recupero del tessuto muscolare rispetto ad altri tessuti (tendineo e legamentos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egnaposto data 1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8A92-E1AE-452E-9943-12726246640C}" type="datetime5">
              <a:rPr b="1" lang="it-IT" sz="1200" spc="-1" strike="noStrike">
                <a:solidFill>
                  <a:srgbClr val="454545"/>
                </a:solidFill>
                <a:latin typeface="Times New Roman"/>
              </a:rPr>
              <a:t>31 lug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egnaposto piè di pagina 2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54545"/>
                </a:solidFill>
                <a:latin typeface="Arial"/>
              </a:rPr>
              <a:t>Alberto Di Matt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17:57:35Z</dcterms:created>
  <dc:creator>name</dc:creator>
  <dc:description/>
  <dc:language>en-US</dc:language>
  <cp:lastModifiedBy>Alberto</cp:lastModifiedBy>
  <dcterms:modified xsi:type="dcterms:W3CDTF">2014-03-15T18:11:13Z</dcterms:modified>
  <cp:revision>7</cp:revision>
  <dc:subject/>
  <dc:title>Diapositiva 1</dc:title>
</cp:coreProperties>
</file>