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2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DB92-2DB0-4C20-94E5-11CDBC86CA3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1441-F56C-4811-8111-38CFBC230C0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0B21-6822-4274-87FF-FC0FC2556CE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7F4E-AA06-40E2-B06C-1A3A37175AB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dicazione bibliografic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ontenuti espressi nel titolo della presentazione fanno parte dei contenuti trattati e sviluppati nel testo: “Il Minivolley: fondamenti scientifici e metodologia applicativa” di Pittera, Pedata, Ligas, Pasqualoni, Calzetti Edit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427D-D5B2-4B51-8F3A-3FCE2D51A95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858-6C41-4A35-B118-FCC7AC72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22D0-98B2-4B3C-9F19-198B256C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897-7C37-43AF-9415-1B14C2FF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22DA-BAE9-4CB6-A8C3-0EDB3FD6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A236-A604-4DFC-8C53-3CB1C161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DE0C-1CB1-4C30-9C22-C8A0ABED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3E32-4931-4FF6-BB54-548ECFF0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1497-5D00-43C3-A5A7-C7630245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7B27-53EF-46BB-9392-AA954F1C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D53B-6B18-408D-87DC-91340659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D244-4459-46F8-AE37-B6009A49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84F9-3BD8-45C8-9514-6C86277B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A8FE-5E28-4ABA-9F64-75D04E01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4BBD-8870-46CB-8E6F-8509EC20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A7BE-3B5A-4469-91F5-CF7AEED8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6534-A2DD-4D6D-BB26-E1CCB5B3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5FBB-9EAA-4521-B9F5-86AFD46D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1542-C693-4C91-96A6-774BA0AD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48B0-01FC-4627-9610-4ADFE83E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3E4-8B81-410C-B808-6A61BDDA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459-9054-4F83-B40A-038963B4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B78-A52F-44CE-BB71-B62B365A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554-C0BE-4008-B02B-E5BC00B5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671-7C44-4BAC-ACA8-349FDFA2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091F-2EDC-4F33-9620-04C200CA58AB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1" descr="logo FIPAV hires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8028000" y="5445000"/>
            <a:ext cx="900000" cy="1081080"/>
          </a:xfrm>
          <a:prstGeom prst="rect">
            <a:avLst/>
          </a:prstGeom>
          <a:ln w="0">
            <a:noFill/>
          </a:ln>
        </p:spPr>
      </p:pic>
      <p:sp>
        <p:nvSpPr>
          <p:cNvPr id="10" name="Text Box 12"/>
          <p:cNvSpPr/>
          <p:nvPr/>
        </p:nvSpPr>
        <p:spPr>
          <a:xfrm rot="16200000">
            <a:off x="-1634040" y="4853160"/>
            <a:ext cx="352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rebuchet MS"/>
              </a:rPr>
              <a:t>© by FIPAV  - Centro Qualificazione Naz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8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12" descr="logo FIPAV hires"/>
          <p:cNvPicPr/>
          <p:nvPr/>
        </p:nvPicPr>
        <p:blipFill>
          <a:blip r:embed="rId2"/>
          <a:stretch/>
        </p:blipFill>
        <p:spPr>
          <a:xfrm>
            <a:off x="8028000" y="5445000"/>
            <a:ext cx="900000" cy="1081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3"/>
          <p:cNvSpPr/>
          <p:nvPr/>
        </p:nvSpPr>
        <p:spPr>
          <a:xfrm rot="16200000">
            <a:off x="-1634040" y="4853160"/>
            <a:ext cx="352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rebuchet MS"/>
              </a:rPr>
              <a:t>© by FIPAV  - Centro Qualificazione Naz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C8FA-C399-4D84-AFB6-D7B3222F2D3C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Berlin Sans FB"/>
              </a:rPr>
              <a:t>CORSO ALLIEVO ALLENATORE PRIMO LIVELLO GIOVANIL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erlin Sans FB"/>
              </a:rPr>
              <a:t>MODULO 4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erlin Sans FB"/>
              </a:rPr>
              <a:t>PREPARAZIONE MOTORIA</a:t>
            </a:r>
            <a:r>
              <a:rPr b="0" i="1" lang="it-IT" sz="28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Berlin Sans FB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erlin Sans FB"/>
              </a:rPr>
              <a:t>“</a:t>
            </a:r>
            <a:r>
              <a:rPr b="1" lang="it-IT" sz="2800" spc="-1" strike="noStrike">
                <a:solidFill>
                  <a:srgbClr val="000000"/>
                </a:solidFill>
                <a:latin typeface="Berlin Sans FB"/>
              </a:rPr>
              <a:t>Cenni sul rapporto tra motricità ed accrescimento – L’apprendimento motorio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rebuchet MS"/>
              </a:rPr>
              <a:t>OBIETTIVO GENERALE DEL MODULO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Dalle problematiche dello sviluppo auxologico della persona e dalla loro incidenza sui processi di apprendimento motorio si sviluppa una analisi dei meccanismi dell’apprendimento stesso favoriti da opportune strategie di intervento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Trebuchet MS"/>
              </a:rPr>
              <a:t>L’APPRENDIMENTO MOTORIO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Aspetti general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Le strategie di apprendiment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L’apprendimento per imitazione</a:t>
            </a:r>
            <a:endParaRPr b="0" i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L’apprendimento simbolico</a:t>
            </a:r>
            <a:endParaRPr b="0" i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rebuchet MS"/>
              </a:rPr>
              <a:t>DOMANDE E CONSIDERAZIONI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0" name="Picture 4" descr="BD18217_"/>
          <p:cNvPicPr/>
          <p:nvPr/>
        </p:nvPicPr>
        <p:blipFill>
          <a:blip r:embed="rId1"/>
          <a:stretch/>
        </p:blipFill>
        <p:spPr>
          <a:xfrm>
            <a:off x="755640" y="2708280"/>
            <a:ext cx="1390680" cy="201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BD18217_"/>
          <p:cNvPicPr/>
          <p:nvPr/>
        </p:nvPicPr>
        <p:blipFill>
          <a:blip r:embed="rId2"/>
          <a:stretch/>
        </p:blipFill>
        <p:spPr>
          <a:xfrm>
            <a:off x="6227640" y="3357720"/>
            <a:ext cx="1897200" cy="2746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BD18217_"/>
          <p:cNvPicPr/>
          <p:nvPr/>
        </p:nvPicPr>
        <p:blipFill>
          <a:blip r:embed="rId3"/>
          <a:stretch/>
        </p:blipFill>
        <p:spPr>
          <a:xfrm>
            <a:off x="2556000" y="4365720"/>
            <a:ext cx="1050840" cy="1522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BD18217_"/>
          <p:cNvPicPr/>
          <p:nvPr/>
        </p:nvPicPr>
        <p:blipFill>
          <a:blip r:embed="rId4"/>
          <a:stretch/>
        </p:blipFill>
        <p:spPr>
          <a:xfrm>
            <a:off x="2916360" y="1628640"/>
            <a:ext cx="844560" cy="1224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BD18217_"/>
          <p:cNvPicPr/>
          <p:nvPr/>
        </p:nvPicPr>
        <p:blipFill>
          <a:blip r:embed="rId5"/>
          <a:stretch/>
        </p:blipFill>
        <p:spPr>
          <a:xfrm>
            <a:off x="5940360" y="1773360"/>
            <a:ext cx="844560" cy="1224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9"/>
          <p:cNvSpPr/>
          <p:nvPr/>
        </p:nvSpPr>
        <p:spPr>
          <a:xfrm>
            <a:off x="3564000" y="2203560"/>
            <a:ext cx="25923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 algn="ctr">
              <a:lnSpc>
                <a:spcPct val="80000"/>
              </a:lnSpc>
              <a:spcBef>
                <a:spcPts val="8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600" spc="-1" strike="noStrike">
                <a:solidFill>
                  <a:srgbClr val="9999ff"/>
                </a:solidFill>
                <a:latin typeface="Book Antiqua"/>
              </a:rPr>
              <a:t>?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5:47:45Z</dcterms:created>
  <dc:creator>Bellotti</dc:creator>
  <dc:description/>
  <dc:language>en-US</dc:language>
  <cp:lastModifiedBy>Utente</cp:lastModifiedBy>
  <dcterms:modified xsi:type="dcterms:W3CDTF">2017-04-19T16:23:37Z</dcterms:modified>
  <cp:revision>10</cp:revision>
  <dc:subject/>
  <dc:title>Diapositiva 1</dc:title>
</cp:coreProperties>
</file>