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1D2F-C181-4565-8206-F78DFDB72C5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69EA-5967-48AD-98F9-4CFBDB65298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28D1-2CC2-448C-A286-70BE9D657E3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596F-4147-4F1D-8087-4A49B66A6C7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lossari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concetto di pianificazione – previsione del percorso completa di obiettivi (a lungo, medio e breve termine), metodi, contenuti e mezzi operativi nonché della determinazione del timng operativo previsto e del timing dei processi da valutazione del programma stes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114E-7793-4B90-9830-C8A24939166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F4FD-3E7A-4BE2-A6AA-B514448F3FB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lossari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cetto di programmazione pluriennale – approfondimento del concetto descrivendo alcuni aspetti ad esso correlat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odello di prestazione nelle principali fasce di qualificazione tecnica – obiettivi a lungo ter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supposti tecnici, fisici e di organizzazione dell’attività che tende ai suddetti modelli di prestazione – tecniche di riferimento, presupposti nello sviluppo della componente condizionale e rapporto volume intensità del lavoro costantemente adeguato al progresso te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ercorso programmatico – identificazione delle fasi della pianificazione e formulazione degli obiettivi a medio e breve ter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1B8B-325A-40B4-AF11-EFAF700D57B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lossari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cetto di modello di riferimento – gesto tecnico a cui tendere nel percorso di insegnamento: può essere il gesto così come lo esegue un giocatore di alto livello e può essere espresso con il concetto di modello esecutivo (da non confondere con il concetto di modello di prestazione o modello prestativo che identifica un modello riferito al gioco della squadra o al grado di competitività agonistica di un ruolo o singolo giocato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cetto di principio metodologico – una regola di carattere generale attraverso cui è possibile inquadrare un possibile errore esecu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cetto di protocollo tecnico didattico – una serie di esercitazioni in sequenza logica dettata dall’esigenza di rispettare i principi teorici dell’allenamento sportivo (descritti in altro modul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cetto di unità didattica – serie di sedute di allenamento in sequenza che sono caratterizzate da un tema permanente definito in cui il tema principale e secondario vengono identificati in funzione di differenti criteri scel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5ED3-956E-4B23-B52B-46F848E97B7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D156-C7F2-4648-A0F8-6E8FF053594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lossari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cetto di allenamento situazionale – allenamento in cui la dinamica del gioco viene rispettata anche se non è un esercizio basato sul confronto 6 vs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9816-60C9-42AF-AE8C-2408BD72E91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EE9E-EE07-4674-9C17-BE05CB40A5A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614-B417-4FDE-A190-47DB1800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A67-2D1D-469F-9184-695C5148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0EE-7EF6-4900-8575-6EC2F24D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5B8-2F85-4F21-B692-B83676D9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E2F5-DD68-4CFE-8A9F-08D0108C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B78A-2EB0-47A8-BAC6-473E9A5E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7E22-BEEF-4BDC-B1BA-C788D586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82CE-83AF-4E12-A779-1ED28C19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2F02-AE82-49F9-8A3A-4BA41B52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F16F-097B-4205-8073-D421F1BC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3F7C-88E5-4E68-9363-4897D489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FE0C-54DC-4247-96D2-B6F2C62C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0BD1-D468-421B-8F3C-7D5D28B8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AF4C-1926-4BCC-BED1-8CA675A5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BFB3-2CE2-453A-ADBF-B2D3C058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FF42-86D9-4602-BF0C-DA8EDC3A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58E1-AC47-43D9-9466-6E84C0B0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676-EE02-4705-9EEA-C01E93D1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AE16-6F6A-4630-8227-279163B7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566-E713-4BFA-8E66-357BC1D8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D71A-B7FC-4E02-91E1-1BE07B02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F39-4E2A-4C06-972B-FC814B41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B91-79FD-4D49-9B67-F5366438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FA3-3E13-4836-B80A-E3689684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0805-FBDE-4DE6-A192-9E8F9FC5C4D0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1" descr="logo FIPAV hires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028000" y="5445000"/>
            <a:ext cx="900000" cy="1081080"/>
          </a:xfrm>
          <a:prstGeom prst="rect">
            <a:avLst/>
          </a:prstGeom>
          <a:ln w="0">
            <a:noFill/>
          </a:ln>
        </p:spPr>
      </p:pic>
      <p:sp>
        <p:nvSpPr>
          <p:cNvPr id="10" name="Text Box 12"/>
          <p:cNvSpPr/>
          <p:nvPr/>
        </p:nvSpPr>
        <p:spPr>
          <a:xfrm rot="16200000">
            <a:off x="-1634040" y="4853160"/>
            <a:ext cx="352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rebuchet MS"/>
              </a:rPr>
              <a:t>© by FIPAV  - Centro Qualificazione Naz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8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12" descr="logo FIPAV hires"/>
          <p:cNvPicPr/>
          <p:nvPr/>
        </p:nvPicPr>
        <p:blipFill>
          <a:blip r:embed="rId2"/>
          <a:stretch/>
        </p:blipFill>
        <p:spPr>
          <a:xfrm>
            <a:off x="8028000" y="5445000"/>
            <a:ext cx="900000" cy="1081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3"/>
          <p:cNvSpPr/>
          <p:nvPr/>
        </p:nvSpPr>
        <p:spPr>
          <a:xfrm rot="16200000">
            <a:off x="-1634040" y="4853160"/>
            <a:ext cx="352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rebuchet MS"/>
              </a:rPr>
              <a:t>© by FIPAV  - Centro Qualificazione Naz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17B0-1A82-4484-B389-205256D2150F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Berlin Sans FB"/>
              </a:rPr>
              <a:t>CORSO ALLIEVO ALLENATORE PRIMO LIVELLO GIOVANI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erlin Sans FB"/>
              </a:rPr>
              <a:t>MODUL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erlin Sans FB"/>
              </a:rPr>
              <a:t>METODOLOGIA 3</a:t>
            </a:r>
            <a:r>
              <a:rPr b="0" lang="it-IT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erlin Sans FB"/>
              </a:rPr>
              <a:t>“</a:t>
            </a:r>
            <a:r>
              <a:rPr b="1" lang="it-IT" sz="2000" spc="-1" strike="noStrike">
                <a:solidFill>
                  <a:srgbClr val="000000"/>
                </a:solidFill>
                <a:latin typeface="Berlin Sans FB"/>
              </a:rPr>
              <a:t>Principi metodologici nell’organizzazione dell’attività giovanile – Principi della programmazione tecnica per le fasce d’età giovani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rebuchet MS"/>
              </a:rPr>
              <a:t>DOMANDE E CONSIDERAZION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BD18217_"/>
          <p:cNvPicPr/>
          <p:nvPr/>
        </p:nvPicPr>
        <p:blipFill>
          <a:blip r:embed="rId1"/>
          <a:stretch/>
        </p:blipFill>
        <p:spPr>
          <a:xfrm>
            <a:off x="755640" y="2708280"/>
            <a:ext cx="1390680" cy="201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D18217_"/>
          <p:cNvPicPr/>
          <p:nvPr/>
        </p:nvPicPr>
        <p:blipFill>
          <a:blip r:embed="rId2"/>
          <a:stretch/>
        </p:blipFill>
        <p:spPr>
          <a:xfrm>
            <a:off x="6227640" y="3357720"/>
            <a:ext cx="1897200" cy="2746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BD18217_"/>
          <p:cNvPicPr/>
          <p:nvPr/>
        </p:nvPicPr>
        <p:blipFill>
          <a:blip r:embed="rId3"/>
          <a:stretch/>
        </p:blipFill>
        <p:spPr>
          <a:xfrm>
            <a:off x="2556000" y="4365720"/>
            <a:ext cx="1050840" cy="1522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BD18217_"/>
          <p:cNvPicPr/>
          <p:nvPr/>
        </p:nvPicPr>
        <p:blipFill>
          <a:blip r:embed="rId4"/>
          <a:stretch/>
        </p:blipFill>
        <p:spPr>
          <a:xfrm>
            <a:off x="2916360" y="1628640"/>
            <a:ext cx="844560" cy="1224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BD18217_"/>
          <p:cNvPicPr/>
          <p:nvPr/>
        </p:nvPicPr>
        <p:blipFill>
          <a:blip r:embed="rId5"/>
          <a:stretch/>
        </p:blipFill>
        <p:spPr>
          <a:xfrm>
            <a:off x="5940360" y="1773360"/>
            <a:ext cx="844560" cy="1224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3564000" y="2203560"/>
            <a:ext cx="25923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 algn="ctr">
              <a:lnSpc>
                <a:spcPct val="80000"/>
              </a:lnSpc>
              <a:spcBef>
                <a:spcPts val="8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600" spc="-1" strike="noStrike">
                <a:solidFill>
                  <a:srgbClr val="9999ff"/>
                </a:solidFill>
                <a:latin typeface="Book Antiqua"/>
              </a:rPr>
              <a:t>?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Berlin Sans FB"/>
              </a:rPr>
              <a:t>Obiettivo generale del modul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14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Dal concetto generale di pianificazione delle attività è possibile identificare il significato degli obiettivi (</a:t>
            </a: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obiettivi e breve, medio e lungo termine</a:t>
            </a: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obiettivi generali e specifici, obiettivi in ambito tecnico, socio – relazionale e promozionale, obiettivi da perseguire nelle varie fasce d’età giovanili, nei diversi contesti in cui opera l’allievo allenatore, nei diversi contesti sociali in cui si colloca il Club</a:t>
            </a: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rebuchet MS"/>
              </a:rPr>
              <a:t>Presupposti della pianific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rebuchet MS"/>
              </a:rPr>
              <a:t>Gli obiettivi della pianific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rebuchet MS"/>
              </a:rPr>
              <a:t>Strategie di pianific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rebuchet MS"/>
              </a:rPr>
              <a:t>Prevenzione delle problemati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rebuchet MS"/>
              </a:rPr>
              <a:t>Valutazione dei risultati e aggiustamento delle proposte oper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SIGNIFICATO GENERALE DEL CONCETTO DI PIANIFICA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79246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La programmazione annuale e la programmazione plurien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Perché si parla di programmazione pluriennale in ambito giovan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Relazione tra fascia d’età e priorità in termini programma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rebuchet MS"/>
              </a:rPr>
              <a:t>La categoria under 14: la didat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rebuchet MS"/>
              </a:rPr>
              <a:t>La categoria under 16: il processo di identificazione del ruolo e la speci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rebuchet MS"/>
              </a:rPr>
              <a:t>La categoria under 18: l’allenamento specialistico e l’allenamento situaz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LA PIANIFICAZIONE TECNICA IN AMBITO FORMA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84428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Modelli di riferimento e criteri di sce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Principi metodologici nell’identificazione degli err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Principi metodologici nella correzione degli err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Il “protocollo tecnico didattic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L’unità didat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ffffff"/>
                </a:solidFill>
                <a:latin typeface="Arial"/>
              </a:rPr>
              <a:t>LA PROGRAMMAZIONE NELLA CATEGORIA UNDER 14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84428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rebuchet MS"/>
              </a:rPr>
              <a:t>Obietti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rebuchet MS"/>
              </a:rPr>
              <a:t>La ricerca delle attitudini al ruo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rebuchet MS"/>
              </a:rPr>
              <a:t>Il riconoscimento delle attitud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Trebuchet MS"/>
              </a:rPr>
              <a:t>Il percorso di specializz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ffffff"/>
                </a:solidFill>
                <a:latin typeface="Arial"/>
              </a:rPr>
              <a:t>LA PROGRAMMAZIONE NELLA CATEGORIA UNDER 16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Dall’attitudine al ruolo all’allenamento esclusivo sulle problematiche del ru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Concetto di allenamento situ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rebuchet MS"/>
              </a:rPr>
              <a:t>Elementi tecnici che richiede l’allenamento situaz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rebuchet MS"/>
              </a:rPr>
              <a:t>Allenamento situazionale ed esercizio di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rebuchet MS"/>
              </a:rPr>
              <a:t>Allenamento situazionale ed esercizio glob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ffffff"/>
                </a:solidFill>
                <a:latin typeface="Arial"/>
              </a:rPr>
              <a:t>LA PROGRAMMAZIONE NELLA CATEGORIA UNDER 18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09480" y="1844640"/>
            <a:ext cx="79250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Ruolo dell’allen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Ruolo privilegi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Ruolo cent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Immagine di rife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’allenatore educatore dell’ambiente 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Attività complementari programmate e svolte dall’allen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ffffff"/>
                </a:solidFill>
                <a:latin typeface="Arial"/>
              </a:rPr>
              <a:t>LA PIANIFICAZIONE IN AMBITO SOCIO – RELAZIONA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rebuchet MS"/>
              </a:rPr>
              <a:t>La promozionalità sul terri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1840" indent="-26532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Criteri identificativi che contraddistinguono il terri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rebuchet MS"/>
              </a:rPr>
              <a:t>Principi nella costruzione di una strategia promoz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rebuchet MS"/>
              </a:rPr>
              <a:t>Criteri di valutazione della strategia promoz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rebuchet MS"/>
              </a:rPr>
              <a:t>Dalla strategia promozionale alla strategia di fidelizz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ffffff"/>
                </a:solidFill>
                <a:latin typeface="Arial"/>
              </a:rPr>
              <a:t>LA PIANIFICAZIONE IN AMBITO PROMOZIONA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5:47:45Z</dcterms:created>
  <dc:creator>Bellotti</dc:creator>
  <dc:description/>
  <dc:language>en-US</dc:language>
  <cp:lastModifiedBy>Utente</cp:lastModifiedBy>
  <dcterms:modified xsi:type="dcterms:W3CDTF">2017-04-10T21:08:42Z</dcterms:modified>
  <cp:revision>15</cp:revision>
  <dc:subject/>
  <dc:title>Diapositiva 1</dc:title>
</cp:coreProperties>
</file>