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689D-C580-444A-9A64-C93B577C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56A6-576B-4356-8F83-FB19B0FF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65B3-D199-4148-AFAD-A21825F3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6599-DF7A-41F7-B971-6D529EA1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CFB1-1B39-4765-B3CC-7EE9CD94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3259-94DF-4EBB-932F-EBECB4AB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F2D1-E389-45BC-A856-41376EA8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FDFA-025A-47A7-B9E2-C8A00C60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D695-2C07-4655-91E7-56B89250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58E3-265D-4435-A4CC-1C86088B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E91D-3ACE-428A-9DE6-FBCAA380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D9D7-BD02-452D-B43A-C21634FB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74CE-3C09-42B0-9375-5AEB0E52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149B-FFD2-4FD8-9627-2C428A7B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BA71-ADE0-4FB3-A690-C90A70B9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023C-9AC6-4D4D-8465-D641F3E0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5458-0A01-4EF5-A4A1-269C4613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364B-3FDE-4397-A7CC-80C77E85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60A3-431E-4E7D-A3BF-CDE33FD4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EAD6-026B-4BAD-BAC3-D18C1D6D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6CA9-C566-4DBF-8A06-FB3BEB24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4055-9FA4-49B9-97DE-B040C874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AC47-029B-402A-B0C2-BCD02395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61C2-3BDB-485E-A32F-FB7D459F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DFA2-242F-4FC0-846C-5E861C40A4F7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F64D-ACAD-4A65-97EE-D145ABF45ECE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000" y="2781000"/>
            <a:ext cx="7993080" cy="1297080"/>
          </a:xfrm>
          <a:prstGeom prst="rect">
            <a:avLst/>
          </a:prstGeom>
          <a:noFill/>
          <a:ln w="50760">
            <a:solidFill>
              <a:srgbClr val="00008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fff99"/>
                </a:solidFill>
                <a:latin typeface="Arial"/>
              </a:rPr>
              <a:t>Introduzione al primo soccorso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ffff99"/>
                </a:solidFill>
                <a:uFillTx/>
                <a:latin typeface="Arial"/>
              </a:rPr>
              <a:t>Cos’è il primo soccorso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90756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Il primo soccorso è tutto ciò che un soccorritore occasionale può fare in caso di necessità senza l’ausilio di mezzi professionali.</a:t>
            </a:r>
            <a:r>
              <a:rPr b="1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4" descr="BD00038_"/>
          <p:cNvPicPr/>
          <p:nvPr/>
        </p:nvPicPr>
        <p:blipFill>
          <a:blip r:embed="rId1"/>
          <a:stretch/>
        </p:blipFill>
        <p:spPr>
          <a:xfrm>
            <a:off x="7380360" y="2781360"/>
            <a:ext cx="1295280" cy="1257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152280" y="2336760"/>
            <a:ext cx="1524240" cy="12700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609480" y="3581280"/>
            <a:ext cx="8382240" cy="27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Ha il compito di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reservare le funzioni vitali della persona  durante l’attesa di soccorsi più qualificati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vitare ulteriori rischi per la salut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vitare aggravamenti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igliorare le condizioni generali (se possibile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96520"/>
            <a:ext cx="8229600" cy="3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ffff99"/>
                </a:solidFill>
                <a:uFillTx/>
                <a:latin typeface="Arial"/>
              </a:rPr>
              <a:t>PRONTO SOCCORSO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Il pronto soccorso è tutto ciò che si può fare con personale e mezzi adeguati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4" descr="BD20121_"/>
          <p:cNvPicPr/>
          <p:nvPr/>
        </p:nvPicPr>
        <p:blipFill>
          <a:blip r:embed="rId1"/>
          <a:stretch/>
        </p:blipFill>
        <p:spPr>
          <a:xfrm>
            <a:off x="611280" y="3573360"/>
            <a:ext cx="1874880" cy="1781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BD05805_"/>
          <p:cNvPicPr/>
          <p:nvPr/>
        </p:nvPicPr>
        <p:blipFill>
          <a:blip r:embed="rId2"/>
          <a:stretch/>
        </p:blipFill>
        <p:spPr>
          <a:xfrm>
            <a:off x="6723000" y="4221000"/>
            <a:ext cx="1452600" cy="172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60160"/>
            <a:ext cx="822960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ffff99"/>
                </a:solidFill>
                <a:uFillTx/>
                <a:latin typeface="Arial"/>
              </a:rPr>
              <a:t>Urgenza o emergenza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Entrambe sono situazioni anomale in cui la salute dall’infortunato è compromess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L’</a:t>
            </a:r>
            <a:r>
              <a:rPr b="1" lang="it-IT" sz="2400" spc="-1" strike="noStrike">
                <a:solidFill>
                  <a:srgbClr val="f5fe44"/>
                </a:solidFill>
                <a:latin typeface="Verdana"/>
              </a:rPr>
              <a:t>URGENZ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richiede un soccorso rapido, ma NON compromette la vita della person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L’</a:t>
            </a:r>
            <a:r>
              <a:rPr b="1" lang="it-IT" sz="2400" spc="-1" strike="noStrike">
                <a:solidFill>
                  <a:srgbClr val="f5fe44"/>
                </a:solidFill>
                <a:latin typeface="Verdana"/>
              </a:rPr>
              <a:t>EMERGENZ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richiede un soccorso immediato perché è a rischio la vita della person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ffff99"/>
                </a:solidFill>
                <a:uFillTx/>
                <a:latin typeface="Arial"/>
              </a:rPr>
              <a:t>SCALA DELLE URGENZ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5fe44"/>
                </a:solidFill>
                <a:uFillTx/>
                <a:latin typeface="Verdana"/>
              </a:rPr>
              <a:t>ESTREMA URGENZA</a:t>
            </a:r>
            <a:r>
              <a:rPr b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 tutte le lesioni che interferiscono con la respirazione e/o la circolazion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5fe44"/>
                </a:solidFill>
                <a:uFillTx/>
                <a:latin typeface="Verdana"/>
              </a:rPr>
              <a:t>URGENZA PRIMARIA</a:t>
            </a:r>
            <a:r>
              <a:rPr b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 emorragie contenibili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 portatori di laccio emostatico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 gravi traumi toracici e addominali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 gravi ed estese ustioni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 membra sfracellate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 amputazion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5fe44"/>
                </a:solidFill>
                <a:uFillTx/>
                <a:latin typeface="Verdana"/>
              </a:rPr>
              <a:t>URGENZA SECONDARIA</a:t>
            </a:r>
            <a:r>
              <a:rPr b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 frattura di colonna vertebrale o di bacino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 fratture esposte degli arti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 ferite grav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5fe44"/>
                </a:solidFill>
                <a:uFillTx/>
                <a:latin typeface="Verdana"/>
              </a:rPr>
              <a:t>SENZA URGENZA</a:t>
            </a:r>
            <a:r>
              <a:rPr b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 fratture non esposte degli arti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 ferite lievi, escoriazioni, contusioni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 ustioni liev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4" descr="BD04972_"/>
          <p:cNvPicPr/>
          <p:nvPr/>
        </p:nvPicPr>
        <p:blipFill>
          <a:blip r:embed="rId5"/>
          <a:stretch/>
        </p:blipFill>
        <p:spPr>
          <a:xfrm>
            <a:off x="5724360" y="1989000"/>
            <a:ext cx="2924280" cy="21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ffff99"/>
                </a:solidFill>
                <a:uFillTx/>
                <a:latin typeface="Arial"/>
              </a:rPr>
              <a:t>COMPITI DEL PRIMO SOCCORRITO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8229600" cy="18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Valutare la situazion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Attivare la chiamata di soccorso (118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Assistere l’infortunato secondo le regole di primo soccorso conosciute ed il buon sens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4" descr="BD04918_"/>
          <p:cNvPicPr/>
          <p:nvPr/>
        </p:nvPicPr>
        <p:blipFill>
          <a:blip r:embed="rId4"/>
          <a:stretch/>
        </p:blipFill>
        <p:spPr>
          <a:xfrm>
            <a:off x="5724360" y="4653000"/>
            <a:ext cx="1368720" cy="135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09:47:37Z</dcterms:created>
  <dc:creator>Faggiano Danilo</dc:creator>
  <dc:description/>
  <dc:language>en-US</dc:language>
  <cp:lastModifiedBy>Utente</cp:lastModifiedBy>
  <dcterms:modified xsi:type="dcterms:W3CDTF">2017-05-25T13:15:42Z</dcterms:modified>
  <cp:revision>14</cp:revision>
  <dc:subject/>
  <dc:title>Diapositiva 1</dc:title>
</cp:coreProperties>
</file>